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69D-F76E-4044-A05F-01814EDE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ACD-F257-419A-B338-6DD02F6A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E317-E3B6-4608-A8BE-4538C2A2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291-7DC1-4E27-A0D3-21CDDDFA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B6A2-AEC4-45D1-8628-8999DB20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233B-60CF-473F-A1AD-9D2E7134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3354-1135-4AAD-9915-EA4DF709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5604-6F67-426C-A69D-9C5238B5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4FC7-B5E0-48CB-8CFB-6DE914D3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88B4-EDD3-427E-9475-391578C0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CE83-BDDB-4A4B-B54F-FA8321D6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B385-D1E3-4B34-A06C-64B8C21E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478B-6F5E-408C-8A27-86A85E77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E593-A66D-4C5B-B30D-30DC5537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FF83-8E57-45E8-8B97-0D92E27F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69BE-2A9E-4E51-8937-42AD6DC9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0B6D-ACFE-4122-9157-69E76AC9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C2A-0DCD-45AC-98AE-3D8EFB35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8AF8-9CBF-4DE2-A77B-A78FE5B8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7EE1-61EE-4925-94EE-E98EF990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290-A4CC-407E-8C52-A830BE65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876-E4F7-4AD6-A25E-F180DA62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B7A-8C5E-4F9A-821C-5C724C87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D5AA-7AAD-44A2-BE20-545CCAC3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83C0-AE17-4360-B10F-D27F62117E96}" type="slidenum">
              <a:rPr b="0" lang="en-US" sz="1400" spc="-1" strike="noStrike">
                <a:solidFill>
                  <a:srgbClr val="eae8e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A2D9-378F-4D87-9A66-976A2D91E6B9}" type="slidenum">
              <a:rPr b="0" lang="en-US" sz="1400" spc="-1" strike="noStrike">
                <a:solidFill>
                  <a:srgbClr val="eae8e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Unit 13</a:t>
            </a: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cale Drawings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ive:  Students will use ratio/proportion to create scale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rawings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Scale Drawings</a:t>
            </a: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 scale drawing is a drawing of an object. It is always the same shape of the object, but a different size than the original. A scale drawing can represent an object smaller than in reality, or larger.</a:t>
            </a:r>
            <a:endParaRPr b="0" lang="en-US" sz="28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x.1)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we are making a scale drawing of the classroom, you might use a scale of 20in = 1cm.  If one wall is 460in, how many cm will it be in the scale drawing?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Ex. 2)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 So that everyone can see the information on the power point, the projector enlarges the image using a scale of 3 in on the computer = 1 ft. on the screen.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17840" y="4660920"/>
            <a:ext cx="4268880" cy="430200"/>
          </a:xfrm>
          <a:custGeom>
            <a:avLst/>
            <a:gdLst/>
            <a:ahLst/>
            <a:rect l="l" t="t" r="r" b="b"/>
            <a:pathLst>
              <a:path w="11858" h="1192">
                <a:moveTo>
                  <a:pt x="9500" y="13022"/>
                </a:moveTo>
                <a:cubicBezTo>
                  <a:pt x="9540" y="13009"/>
                  <a:pt x="9579" y="13008"/>
                  <a:pt x="9624" y="12998"/>
                </a:cubicBezTo>
                <a:cubicBezTo>
                  <a:pt x="9677" y="12987"/>
                  <a:pt x="9730" y="12962"/>
                  <a:pt x="9798" y="12973"/>
                </a:cubicBezTo>
                <a:cubicBezTo>
                  <a:pt x="9828" y="12978"/>
                  <a:pt x="9867" y="12987"/>
                  <a:pt x="9897" y="12998"/>
                </a:cubicBezTo>
                <a:cubicBezTo>
                  <a:pt x="9911" y="13003"/>
                  <a:pt x="9927" y="13021"/>
                  <a:pt x="9971" y="13022"/>
                </a:cubicBezTo>
                <a:cubicBezTo>
                  <a:pt x="10050" y="13024"/>
                  <a:pt x="10120" y="13041"/>
                  <a:pt x="10195" y="13047"/>
                </a:cubicBezTo>
                <a:cubicBezTo>
                  <a:pt x="10298" y="13055"/>
                  <a:pt x="10375" y="13034"/>
                  <a:pt x="10468" y="13022"/>
                </a:cubicBezTo>
                <a:cubicBezTo>
                  <a:pt x="10553" y="13011"/>
                  <a:pt x="10612" y="13016"/>
                  <a:pt x="10691" y="12998"/>
                </a:cubicBezTo>
                <a:cubicBezTo>
                  <a:pt x="10740" y="12987"/>
                  <a:pt x="10766" y="12978"/>
                  <a:pt x="10815" y="12973"/>
                </a:cubicBezTo>
                <a:cubicBezTo>
                  <a:pt x="10883" y="12966"/>
                  <a:pt x="10950" y="12956"/>
                  <a:pt x="11013" y="12948"/>
                </a:cubicBezTo>
                <a:cubicBezTo>
                  <a:pt x="11109" y="12936"/>
                  <a:pt x="11195" y="12963"/>
                  <a:pt x="11286" y="12973"/>
                </a:cubicBezTo>
                <a:cubicBezTo>
                  <a:pt x="11471" y="12994"/>
                  <a:pt x="11672" y="12985"/>
                  <a:pt x="11857" y="12998"/>
                </a:cubicBezTo>
                <a:cubicBezTo>
                  <a:pt x="12029" y="13010"/>
                  <a:pt x="12206" y="13018"/>
                  <a:pt x="12378" y="13022"/>
                </a:cubicBezTo>
                <a:cubicBezTo>
                  <a:pt x="12430" y="13023"/>
                  <a:pt x="12559" y="13045"/>
                  <a:pt x="12576" y="13047"/>
                </a:cubicBezTo>
                <a:cubicBezTo>
                  <a:pt x="12648" y="13055"/>
                  <a:pt x="12739" y="13065"/>
                  <a:pt x="12799" y="13072"/>
                </a:cubicBezTo>
                <a:cubicBezTo>
                  <a:pt x="12857" y="13072"/>
                  <a:pt x="12865" y="13072"/>
                  <a:pt x="12898" y="13072"/>
                </a:cubicBezTo>
              </a:path>
              <a:path w="11858" h="1192">
                <a:moveTo>
                  <a:pt x="6995" y="13146"/>
                </a:moveTo>
                <a:cubicBezTo>
                  <a:pt x="7053" y="13140"/>
                  <a:pt x="7112" y="13134"/>
                  <a:pt x="7169" y="13122"/>
                </a:cubicBezTo>
                <a:cubicBezTo>
                  <a:pt x="7304" y="13094"/>
                  <a:pt x="7473" y="13108"/>
                  <a:pt x="7615" y="13122"/>
                </a:cubicBezTo>
                <a:cubicBezTo>
                  <a:pt x="7759" y="13136"/>
                  <a:pt x="7948" y="13131"/>
                  <a:pt x="8086" y="13171"/>
                </a:cubicBezTo>
                <a:cubicBezTo>
                  <a:pt x="8153" y="13190"/>
                  <a:pt x="8173" y="13179"/>
                  <a:pt x="8235" y="13171"/>
                </a:cubicBezTo>
                <a:cubicBezTo>
                  <a:pt x="8330" y="13159"/>
                  <a:pt x="8411" y="13146"/>
                  <a:pt x="8508" y="13146"/>
                </a:cubicBezTo>
                <a:cubicBezTo>
                  <a:pt x="8602" y="13146"/>
                  <a:pt x="8683" y="13122"/>
                  <a:pt x="8781" y="13122"/>
                </a:cubicBezTo>
                <a:cubicBezTo>
                  <a:pt x="8845" y="13122"/>
                  <a:pt x="8906" y="13140"/>
                  <a:pt x="8954" y="13146"/>
                </a:cubicBezTo>
                <a:cubicBezTo>
                  <a:pt x="8991" y="13151"/>
                  <a:pt x="9051" y="13170"/>
                  <a:pt x="9054" y="13171"/>
                </a:cubicBezTo>
                <a:cubicBezTo>
                  <a:pt x="9070" y="13171"/>
                  <a:pt x="9087" y="13171"/>
                  <a:pt x="9103" y="13171"/>
                </a:cubicBezTo>
              </a:path>
              <a:path w="11858" h="1192">
                <a:moveTo>
                  <a:pt x="15577" y="13122"/>
                </a:moveTo>
                <a:cubicBezTo>
                  <a:pt x="15637" y="13122"/>
                  <a:pt x="15671" y="13128"/>
                  <a:pt x="15726" y="13146"/>
                </a:cubicBezTo>
                <a:cubicBezTo>
                  <a:pt x="15680" y="13346"/>
                  <a:pt x="15579" y="13376"/>
                  <a:pt x="15379" y="13395"/>
                </a:cubicBezTo>
                <a:cubicBezTo>
                  <a:pt x="15337" y="13395"/>
                  <a:pt x="15321" y="13403"/>
                  <a:pt x="15329" y="13370"/>
                </a:cubicBezTo>
                <a:cubicBezTo>
                  <a:pt x="15435" y="13328"/>
                  <a:pt x="15485" y="13286"/>
                  <a:pt x="15577" y="13370"/>
                </a:cubicBezTo>
                <a:cubicBezTo>
                  <a:pt x="15611" y="13404"/>
                  <a:pt x="15633" y="13413"/>
                  <a:pt x="15677" y="13395"/>
                </a:cubicBezTo>
              </a:path>
              <a:path w="11858" h="1192">
                <a:moveTo>
                  <a:pt x="16049" y="13072"/>
                </a:moveTo>
                <a:cubicBezTo>
                  <a:pt x="15910" y="13089"/>
                  <a:pt x="15896" y="13173"/>
                  <a:pt x="15850" y="13295"/>
                </a:cubicBezTo>
                <a:cubicBezTo>
                  <a:pt x="15899" y="13332"/>
                  <a:pt x="16244" y="13456"/>
                  <a:pt x="16197" y="13246"/>
                </a:cubicBezTo>
                <a:cubicBezTo>
                  <a:pt x="16130" y="13156"/>
                  <a:pt x="16115" y="13129"/>
                  <a:pt x="16049" y="13097"/>
                </a:cubicBezTo>
              </a:path>
              <a:path w="11858" h="1192">
                <a:moveTo>
                  <a:pt x="15404" y="13593"/>
                </a:moveTo>
                <a:cubicBezTo>
                  <a:pt x="15668" y="13593"/>
                  <a:pt x="15933" y="13593"/>
                  <a:pt x="16197" y="13593"/>
                </a:cubicBezTo>
              </a:path>
              <a:path w="11858" h="1192">
                <a:moveTo>
                  <a:pt x="15701" y="13791"/>
                </a:moveTo>
                <a:cubicBezTo>
                  <a:pt x="15701" y="13878"/>
                  <a:pt x="15682" y="13953"/>
                  <a:pt x="15677" y="14039"/>
                </a:cubicBezTo>
                <a:cubicBezTo>
                  <a:pt x="15677" y="14047"/>
                  <a:pt x="15677" y="14056"/>
                  <a:pt x="15677" y="14064"/>
                </a:cubicBezTo>
              </a:path>
              <a:path w="11858" h="1192">
                <a:moveTo>
                  <a:pt x="13816" y="13246"/>
                </a:moveTo>
                <a:cubicBezTo>
                  <a:pt x="13778" y="13334"/>
                  <a:pt x="13733" y="13609"/>
                  <a:pt x="13767" y="13519"/>
                </a:cubicBezTo>
                <a:cubicBezTo>
                  <a:pt x="13775" y="13494"/>
                  <a:pt x="13783" y="13469"/>
                  <a:pt x="13791" y="13444"/>
                </a:cubicBezTo>
              </a:path>
              <a:path w="11858" h="1192">
                <a:moveTo>
                  <a:pt x="13767" y="13047"/>
                </a:moveTo>
                <a:lnTo>
                  <a:pt x="13767" y="13047"/>
                </a:lnTo>
                <a:lnTo>
                  <a:pt x="13767" y="13047"/>
                </a:lnTo>
              </a:path>
              <a:path w="11858" h="1192">
                <a:moveTo>
                  <a:pt x="13767" y="13047"/>
                </a:moveTo>
                <a:lnTo>
                  <a:pt x="13767" y="13047"/>
                </a:lnTo>
              </a:path>
              <a:path w="11858" h="1192">
                <a:moveTo>
                  <a:pt x="13990" y="13345"/>
                </a:moveTo>
                <a:cubicBezTo>
                  <a:pt x="14013" y="13368"/>
                  <a:pt x="14021" y="13372"/>
                  <a:pt x="14015" y="13395"/>
                </a:cubicBezTo>
                <a:cubicBezTo>
                  <a:pt x="14015" y="13316"/>
                  <a:pt x="14034" y="13281"/>
                  <a:pt x="14089" y="13221"/>
                </a:cubicBezTo>
                <a:cubicBezTo>
                  <a:pt x="14193" y="13106"/>
                  <a:pt x="14293" y="13255"/>
                  <a:pt x="14312" y="13345"/>
                </a:cubicBezTo>
                <a:cubicBezTo>
                  <a:pt x="14324" y="13406"/>
                  <a:pt x="14298" y="13440"/>
                  <a:pt x="14288" y="13494"/>
                </a:cubicBezTo>
              </a:path>
              <a:path w="11858" h="1192">
                <a:moveTo>
                  <a:pt x="13568" y="13593"/>
                </a:moveTo>
                <a:cubicBezTo>
                  <a:pt x="13786" y="13593"/>
                  <a:pt x="13997" y="13594"/>
                  <a:pt x="14213" y="13618"/>
                </a:cubicBezTo>
              </a:path>
              <a:path w="11858" h="1192">
                <a:moveTo>
                  <a:pt x="14015" y="13816"/>
                </a:moveTo>
                <a:cubicBezTo>
                  <a:pt x="13924" y="13761"/>
                  <a:pt x="13803" y="13833"/>
                  <a:pt x="13767" y="13940"/>
                </a:cubicBezTo>
                <a:cubicBezTo>
                  <a:pt x="13680" y="14202"/>
                  <a:pt x="14059" y="14135"/>
                  <a:pt x="14188" y="14114"/>
                </a:cubicBezTo>
              </a:path>
              <a:path w="11858" h="1192">
                <a:moveTo>
                  <a:pt x="16545" y="13593"/>
                </a:moveTo>
                <a:cubicBezTo>
                  <a:pt x="16599" y="13593"/>
                  <a:pt x="16857" y="13593"/>
                  <a:pt x="16818" y="13593"/>
                </a:cubicBezTo>
              </a:path>
              <a:path w="11858" h="1192">
                <a:moveTo>
                  <a:pt x="16570" y="13717"/>
                </a:moveTo>
                <a:cubicBezTo>
                  <a:pt x="16661" y="13717"/>
                  <a:pt x="16751" y="13717"/>
                  <a:pt x="16842" y="13717"/>
                </a:cubicBezTo>
              </a:path>
              <a:path w="11858" h="1192">
                <a:moveTo>
                  <a:pt x="17438" y="13171"/>
                </a:moveTo>
                <a:cubicBezTo>
                  <a:pt x="17427" y="13216"/>
                  <a:pt x="17351" y="13273"/>
                  <a:pt x="17413" y="13320"/>
                </a:cubicBezTo>
                <a:cubicBezTo>
                  <a:pt x="17445" y="13345"/>
                  <a:pt x="17716" y="13413"/>
                  <a:pt x="17686" y="13320"/>
                </a:cubicBezTo>
                <a:cubicBezTo>
                  <a:pt x="17669" y="13295"/>
                  <a:pt x="17653" y="13271"/>
                  <a:pt x="17636" y="13246"/>
                </a:cubicBezTo>
              </a:path>
              <a:path w="11858" h="1192">
                <a:moveTo>
                  <a:pt x="17611" y="13072"/>
                </a:moveTo>
                <a:cubicBezTo>
                  <a:pt x="17603" y="13189"/>
                  <a:pt x="17587" y="13302"/>
                  <a:pt x="17587" y="13419"/>
                </a:cubicBezTo>
              </a:path>
              <a:path w="11858" h="1192">
                <a:moveTo>
                  <a:pt x="17934" y="13022"/>
                </a:moveTo>
                <a:cubicBezTo>
                  <a:pt x="17955" y="13126"/>
                  <a:pt x="17906" y="13190"/>
                  <a:pt x="17909" y="13295"/>
                </a:cubicBezTo>
                <a:cubicBezTo>
                  <a:pt x="17914" y="13467"/>
                  <a:pt x="18035" y="13426"/>
                  <a:pt x="18157" y="13395"/>
                </a:cubicBezTo>
                <a:cubicBezTo>
                  <a:pt x="18251" y="13371"/>
                  <a:pt x="18231" y="13372"/>
                  <a:pt x="18231" y="13295"/>
                </a:cubicBezTo>
                <a:cubicBezTo>
                  <a:pt x="18158" y="13237"/>
                  <a:pt x="18105" y="13243"/>
                  <a:pt x="18033" y="13320"/>
                </a:cubicBezTo>
                <a:cubicBezTo>
                  <a:pt x="17952" y="13406"/>
                  <a:pt x="18059" y="13409"/>
                  <a:pt x="18107" y="13419"/>
                </a:cubicBezTo>
              </a:path>
              <a:path w="11858" h="1192">
                <a:moveTo>
                  <a:pt x="18579" y="13047"/>
                </a:moveTo>
                <a:cubicBezTo>
                  <a:pt x="18517" y="13099"/>
                  <a:pt x="18308" y="13266"/>
                  <a:pt x="18430" y="13370"/>
                </a:cubicBezTo>
                <a:cubicBezTo>
                  <a:pt x="18548" y="13470"/>
                  <a:pt x="18827" y="13417"/>
                  <a:pt x="18852" y="13246"/>
                </a:cubicBezTo>
                <a:cubicBezTo>
                  <a:pt x="18878" y="13066"/>
                  <a:pt x="18689" y="13055"/>
                  <a:pt x="18579" y="13072"/>
                </a:cubicBezTo>
              </a:path>
              <a:path w="11858" h="1192">
                <a:moveTo>
                  <a:pt x="17413" y="13593"/>
                </a:moveTo>
                <a:cubicBezTo>
                  <a:pt x="17534" y="13569"/>
                  <a:pt x="17654" y="13559"/>
                  <a:pt x="17785" y="13568"/>
                </a:cubicBezTo>
                <a:cubicBezTo>
                  <a:pt x="18059" y="13587"/>
                  <a:pt x="18328" y="13593"/>
                  <a:pt x="18604" y="13593"/>
                </a:cubicBezTo>
                <a:cubicBezTo>
                  <a:pt x="18678" y="13593"/>
                  <a:pt x="18753" y="13593"/>
                  <a:pt x="18827" y="13593"/>
                </a:cubicBezTo>
              </a:path>
              <a:path w="11858" h="1192">
                <a:moveTo>
                  <a:pt x="17959" y="13841"/>
                </a:moveTo>
                <a:cubicBezTo>
                  <a:pt x="18028" y="13806"/>
                  <a:pt x="18057" y="13907"/>
                  <a:pt x="18107" y="13965"/>
                </a:cubicBezTo>
                <a:cubicBezTo>
                  <a:pt x="18186" y="14057"/>
                  <a:pt x="18268" y="14064"/>
                  <a:pt x="18380" y="14064"/>
                </a:cubicBezTo>
              </a:path>
              <a:path w="11858" h="1192">
                <a:moveTo>
                  <a:pt x="18256" y="13767"/>
                </a:moveTo>
                <a:cubicBezTo>
                  <a:pt x="18199" y="13852"/>
                  <a:pt x="18092" y="13942"/>
                  <a:pt x="18008" y="14015"/>
                </a:cubicBezTo>
                <a:cubicBezTo>
                  <a:pt x="17976" y="14042"/>
                  <a:pt x="17983" y="14051"/>
                  <a:pt x="17983" y="1408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58040" y="4643280"/>
            <a:ext cx="1652760" cy="884520"/>
          </a:xfrm>
          <a:custGeom>
            <a:avLst/>
            <a:gdLst/>
            <a:ahLst/>
            <a:rect l="l" t="t" r="r" b="b"/>
            <a:pathLst>
              <a:path w="4590" h="2457">
                <a:moveTo>
                  <a:pt x="20836" y="13196"/>
                </a:moveTo>
                <a:cubicBezTo>
                  <a:pt x="20863" y="13090"/>
                  <a:pt x="20855" y="13112"/>
                  <a:pt x="20960" y="13122"/>
                </a:cubicBezTo>
                <a:cubicBezTo>
                  <a:pt x="21009" y="13363"/>
                  <a:pt x="20830" y="13487"/>
                  <a:pt x="20588" y="13568"/>
                </a:cubicBezTo>
                <a:cubicBezTo>
                  <a:pt x="20472" y="13587"/>
                  <a:pt x="20423" y="13629"/>
                  <a:pt x="20439" y="13543"/>
                </a:cubicBezTo>
                <a:cubicBezTo>
                  <a:pt x="20570" y="13487"/>
                  <a:pt x="20704" y="13473"/>
                  <a:pt x="20836" y="13568"/>
                </a:cubicBezTo>
                <a:cubicBezTo>
                  <a:pt x="20836" y="13576"/>
                  <a:pt x="20836" y="13585"/>
                  <a:pt x="20836" y="13593"/>
                </a:cubicBezTo>
              </a:path>
              <a:path w="4590" h="2457">
                <a:moveTo>
                  <a:pt x="21233" y="13171"/>
                </a:moveTo>
                <a:cubicBezTo>
                  <a:pt x="21102" y="13200"/>
                  <a:pt x="21001" y="13324"/>
                  <a:pt x="20985" y="13469"/>
                </a:cubicBezTo>
                <a:cubicBezTo>
                  <a:pt x="20993" y="13494"/>
                  <a:pt x="21002" y="13518"/>
                  <a:pt x="21010" y="13543"/>
                </a:cubicBezTo>
                <a:cubicBezTo>
                  <a:pt x="21156" y="13551"/>
                  <a:pt x="21463" y="13523"/>
                  <a:pt x="21357" y="13271"/>
                </a:cubicBezTo>
                <a:cubicBezTo>
                  <a:pt x="21273" y="13187"/>
                  <a:pt x="21262" y="13153"/>
                  <a:pt x="21183" y="13171"/>
                </a:cubicBezTo>
              </a:path>
              <a:path w="4590" h="2457">
                <a:moveTo>
                  <a:pt x="21580" y="13246"/>
                </a:moveTo>
                <a:cubicBezTo>
                  <a:pt x="21645" y="13349"/>
                  <a:pt x="21749" y="13454"/>
                  <a:pt x="21803" y="13543"/>
                </a:cubicBezTo>
              </a:path>
              <a:path w="4590" h="2457">
                <a:moveTo>
                  <a:pt x="21779" y="13295"/>
                </a:moveTo>
                <a:cubicBezTo>
                  <a:pt x="21701" y="13402"/>
                  <a:pt x="21648" y="13475"/>
                  <a:pt x="21555" y="13568"/>
                </a:cubicBezTo>
              </a:path>
              <a:path w="4590" h="2457">
                <a:moveTo>
                  <a:pt x="22101" y="13320"/>
                </a:moveTo>
                <a:cubicBezTo>
                  <a:pt x="22193" y="13298"/>
                  <a:pt x="22280" y="13279"/>
                  <a:pt x="22374" y="13271"/>
                </a:cubicBezTo>
              </a:path>
              <a:path w="4590" h="2457">
                <a:moveTo>
                  <a:pt x="22175" y="13494"/>
                </a:moveTo>
                <a:cubicBezTo>
                  <a:pt x="22277" y="13494"/>
                  <a:pt x="22372" y="13475"/>
                  <a:pt x="22473" y="13469"/>
                </a:cubicBezTo>
              </a:path>
              <a:path w="4590" h="2457">
                <a:moveTo>
                  <a:pt x="22870" y="13146"/>
                </a:moveTo>
                <a:cubicBezTo>
                  <a:pt x="22853" y="13205"/>
                  <a:pt x="22824" y="13263"/>
                  <a:pt x="22796" y="13320"/>
                </a:cubicBezTo>
                <a:cubicBezTo>
                  <a:pt x="22903" y="13413"/>
                  <a:pt x="23008" y="13351"/>
                  <a:pt x="23143" y="13295"/>
                </a:cubicBezTo>
              </a:path>
              <a:path w="4590" h="2457">
                <a:moveTo>
                  <a:pt x="23168" y="13047"/>
                </a:moveTo>
                <a:cubicBezTo>
                  <a:pt x="23130" y="13196"/>
                  <a:pt x="23060" y="13325"/>
                  <a:pt x="23019" y="13469"/>
                </a:cubicBezTo>
              </a:path>
              <a:path w="4590" h="2457">
                <a:moveTo>
                  <a:pt x="23564" y="12948"/>
                </a:moveTo>
                <a:cubicBezTo>
                  <a:pt x="23451" y="13048"/>
                  <a:pt x="23407" y="13189"/>
                  <a:pt x="23391" y="13345"/>
                </a:cubicBezTo>
                <a:cubicBezTo>
                  <a:pt x="23391" y="13386"/>
                  <a:pt x="23391" y="13428"/>
                  <a:pt x="23391" y="13469"/>
                </a:cubicBezTo>
                <a:cubicBezTo>
                  <a:pt x="23584" y="13455"/>
                  <a:pt x="23651" y="13423"/>
                  <a:pt x="23763" y="13271"/>
                </a:cubicBezTo>
                <a:cubicBezTo>
                  <a:pt x="23681" y="13212"/>
                  <a:pt x="23539" y="13245"/>
                  <a:pt x="23515" y="13395"/>
                </a:cubicBezTo>
                <a:cubicBezTo>
                  <a:pt x="23523" y="13411"/>
                  <a:pt x="23532" y="13428"/>
                  <a:pt x="23540" y="13444"/>
                </a:cubicBezTo>
              </a:path>
              <a:path w="4590" h="2457">
                <a:moveTo>
                  <a:pt x="24110" y="12898"/>
                </a:moveTo>
                <a:cubicBezTo>
                  <a:pt x="23985" y="13087"/>
                  <a:pt x="23908" y="13176"/>
                  <a:pt x="24011" y="13370"/>
                </a:cubicBezTo>
                <a:cubicBezTo>
                  <a:pt x="24136" y="13328"/>
                  <a:pt x="24356" y="13209"/>
                  <a:pt x="24135" y="13072"/>
                </a:cubicBezTo>
                <a:cubicBezTo>
                  <a:pt x="23981" y="13020"/>
                  <a:pt x="23925" y="13004"/>
                  <a:pt x="23812" y="13022"/>
                </a:cubicBezTo>
              </a:path>
              <a:path w="4590" h="2457">
                <a:moveTo>
                  <a:pt x="20836" y="13667"/>
                </a:moveTo>
                <a:cubicBezTo>
                  <a:pt x="21168" y="13667"/>
                  <a:pt x="21497" y="13651"/>
                  <a:pt x="21828" y="13643"/>
                </a:cubicBezTo>
                <a:cubicBezTo>
                  <a:pt x="21845" y="13643"/>
                  <a:pt x="21861" y="13643"/>
                  <a:pt x="21878" y="13643"/>
                </a:cubicBezTo>
              </a:path>
              <a:path w="4590" h="2457">
                <a:moveTo>
                  <a:pt x="20861" y="13891"/>
                </a:moveTo>
                <a:cubicBezTo>
                  <a:pt x="20950" y="13903"/>
                  <a:pt x="20983" y="13924"/>
                  <a:pt x="21059" y="13965"/>
                </a:cubicBezTo>
                <a:cubicBezTo>
                  <a:pt x="20962" y="14121"/>
                  <a:pt x="20840" y="14212"/>
                  <a:pt x="20638" y="14188"/>
                </a:cubicBezTo>
                <a:cubicBezTo>
                  <a:pt x="20630" y="14180"/>
                  <a:pt x="20621" y="14171"/>
                  <a:pt x="20613" y="14163"/>
                </a:cubicBezTo>
                <a:cubicBezTo>
                  <a:pt x="20720" y="14057"/>
                  <a:pt x="20814" y="14042"/>
                  <a:pt x="20935" y="14163"/>
                </a:cubicBezTo>
                <a:cubicBezTo>
                  <a:pt x="20935" y="14171"/>
                  <a:pt x="20935" y="14180"/>
                  <a:pt x="20935" y="14188"/>
                </a:cubicBezTo>
              </a:path>
              <a:path w="4590" h="2457">
                <a:moveTo>
                  <a:pt x="21233" y="13915"/>
                </a:moveTo>
                <a:cubicBezTo>
                  <a:pt x="21176" y="14000"/>
                  <a:pt x="21157" y="14037"/>
                  <a:pt x="21158" y="14114"/>
                </a:cubicBezTo>
                <a:cubicBezTo>
                  <a:pt x="21252" y="14157"/>
                  <a:pt x="21481" y="14214"/>
                  <a:pt x="21481" y="14015"/>
                </a:cubicBezTo>
                <a:cubicBezTo>
                  <a:pt x="21481" y="13939"/>
                  <a:pt x="21327" y="13945"/>
                  <a:pt x="21282" y="13940"/>
                </a:cubicBezTo>
              </a:path>
              <a:path w="4590" h="2457">
                <a:moveTo>
                  <a:pt x="22969" y="13767"/>
                </a:moveTo>
                <a:cubicBezTo>
                  <a:pt x="23224" y="13735"/>
                  <a:pt x="23482" y="13696"/>
                  <a:pt x="23738" y="13667"/>
                </a:cubicBezTo>
                <a:cubicBezTo>
                  <a:pt x="23945" y="13649"/>
                  <a:pt x="23969" y="13641"/>
                  <a:pt x="24085" y="13643"/>
                </a:cubicBezTo>
              </a:path>
              <a:path w="4590" h="2457">
                <a:moveTo>
                  <a:pt x="23019" y="13940"/>
                </a:moveTo>
                <a:cubicBezTo>
                  <a:pt x="23204" y="13949"/>
                  <a:pt x="23226" y="13939"/>
                  <a:pt x="23341" y="14064"/>
                </a:cubicBezTo>
                <a:cubicBezTo>
                  <a:pt x="23216" y="14201"/>
                  <a:pt x="23156" y="14235"/>
                  <a:pt x="22969" y="14188"/>
                </a:cubicBezTo>
                <a:cubicBezTo>
                  <a:pt x="23099" y="14107"/>
                  <a:pt x="23272" y="14093"/>
                  <a:pt x="23440" y="14139"/>
                </a:cubicBezTo>
                <a:cubicBezTo>
                  <a:pt x="23457" y="14147"/>
                  <a:pt x="23473" y="14155"/>
                  <a:pt x="23490" y="14163"/>
                </a:cubicBezTo>
              </a:path>
              <a:path w="4590" h="2457">
                <a:moveTo>
                  <a:pt x="23763" y="13891"/>
                </a:moveTo>
                <a:cubicBezTo>
                  <a:pt x="23658" y="14004"/>
                  <a:pt x="23554" y="14232"/>
                  <a:pt x="23837" y="14188"/>
                </a:cubicBezTo>
                <a:cubicBezTo>
                  <a:pt x="24125" y="14144"/>
                  <a:pt x="23852" y="13992"/>
                  <a:pt x="23763" y="13965"/>
                </a:cubicBezTo>
              </a:path>
              <a:path w="4590" h="2457">
                <a:moveTo>
                  <a:pt x="22473" y="14461"/>
                </a:moveTo>
                <a:cubicBezTo>
                  <a:pt x="22552" y="14477"/>
                  <a:pt x="22622" y="14486"/>
                  <a:pt x="22696" y="14511"/>
                </a:cubicBezTo>
              </a:path>
              <a:path w="4590" h="2457">
                <a:moveTo>
                  <a:pt x="22423" y="14684"/>
                </a:moveTo>
                <a:cubicBezTo>
                  <a:pt x="22552" y="14656"/>
                  <a:pt x="22668" y="14625"/>
                  <a:pt x="22796" y="14610"/>
                </a:cubicBezTo>
              </a:path>
              <a:path w="4590" h="2457">
                <a:moveTo>
                  <a:pt x="21977" y="14511"/>
                </a:moveTo>
                <a:cubicBezTo>
                  <a:pt x="22041" y="14575"/>
                  <a:pt x="22094" y="14641"/>
                  <a:pt x="22151" y="14709"/>
                </a:cubicBezTo>
              </a:path>
              <a:path w="4590" h="2457">
                <a:moveTo>
                  <a:pt x="22175" y="14412"/>
                </a:moveTo>
                <a:cubicBezTo>
                  <a:pt x="22118" y="14537"/>
                  <a:pt x="22057" y="14659"/>
                  <a:pt x="22002" y="14784"/>
                </a:cubicBezTo>
              </a:path>
              <a:path w="4590" h="2457">
                <a:moveTo>
                  <a:pt x="24085" y="12923"/>
                </a:moveTo>
                <a:cubicBezTo>
                  <a:pt x="24065" y="13028"/>
                  <a:pt x="23986" y="13106"/>
                  <a:pt x="23986" y="13221"/>
                </a:cubicBezTo>
                <a:cubicBezTo>
                  <a:pt x="23986" y="13343"/>
                  <a:pt x="24034" y="13370"/>
                  <a:pt x="24135" y="13370"/>
                </a:cubicBezTo>
                <a:cubicBezTo>
                  <a:pt x="24129" y="13293"/>
                  <a:pt x="24116" y="13191"/>
                  <a:pt x="24085" y="13122"/>
                </a:cubicBezTo>
                <a:cubicBezTo>
                  <a:pt x="24065" y="13078"/>
                  <a:pt x="24079" y="13019"/>
                  <a:pt x="24036" y="12998"/>
                </a:cubicBezTo>
                <a:cubicBezTo>
                  <a:pt x="23983" y="12972"/>
                  <a:pt x="23986" y="12981"/>
                  <a:pt x="23986" y="12998"/>
                </a:cubicBezTo>
              </a:path>
              <a:path w="4590" h="2457">
                <a:moveTo>
                  <a:pt x="23267" y="14486"/>
                </a:moveTo>
                <a:cubicBezTo>
                  <a:pt x="23417" y="14440"/>
                  <a:pt x="23622" y="14522"/>
                  <a:pt x="23490" y="14734"/>
                </a:cubicBezTo>
                <a:cubicBezTo>
                  <a:pt x="23380" y="14912"/>
                  <a:pt x="23213" y="14932"/>
                  <a:pt x="23044" y="14932"/>
                </a:cubicBezTo>
                <a:cubicBezTo>
                  <a:pt x="23155" y="14741"/>
                  <a:pt x="23284" y="14758"/>
                  <a:pt x="23490" y="14833"/>
                </a:cubicBezTo>
                <a:cubicBezTo>
                  <a:pt x="23513" y="14856"/>
                  <a:pt x="23517" y="14864"/>
                  <a:pt x="23540" y="14858"/>
                </a:cubicBezTo>
              </a:path>
              <a:path w="4590" h="2457">
                <a:moveTo>
                  <a:pt x="23837" y="14412"/>
                </a:moveTo>
                <a:cubicBezTo>
                  <a:pt x="23903" y="14402"/>
                  <a:pt x="24095" y="14359"/>
                  <a:pt x="24036" y="14511"/>
                </a:cubicBezTo>
                <a:cubicBezTo>
                  <a:pt x="23964" y="14606"/>
                  <a:pt x="23943" y="14637"/>
                  <a:pt x="23862" y="14660"/>
                </a:cubicBezTo>
                <a:cubicBezTo>
                  <a:pt x="24009" y="14623"/>
                  <a:pt x="24195" y="14634"/>
                  <a:pt x="24061" y="14833"/>
                </a:cubicBezTo>
                <a:cubicBezTo>
                  <a:pt x="23956" y="14989"/>
                  <a:pt x="23881" y="14966"/>
                  <a:pt x="23738" y="14932"/>
                </a:cubicBezTo>
              </a:path>
              <a:path w="4590" h="2457">
                <a:moveTo>
                  <a:pt x="24185" y="15032"/>
                </a:moveTo>
                <a:cubicBezTo>
                  <a:pt x="24104" y="14986"/>
                  <a:pt x="23989" y="14978"/>
                  <a:pt x="24011" y="15131"/>
                </a:cubicBezTo>
                <a:cubicBezTo>
                  <a:pt x="24033" y="15285"/>
                  <a:pt x="24179" y="15232"/>
                  <a:pt x="24259" y="15205"/>
                </a:cubicBezTo>
              </a:path>
              <a:path w="4590" h="2457">
                <a:moveTo>
                  <a:pt x="24358" y="14982"/>
                </a:moveTo>
                <a:cubicBezTo>
                  <a:pt x="24358" y="15032"/>
                  <a:pt x="24358" y="15065"/>
                  <a:pt x="24358" y="15106"/>
                </a:cubicBezTo>
                <a:cubicBezTo>
                  <a:pt x="24422" y="15213"/>
                  <a:pt x="24339" y="15029"/>
                  <a:pt x="24383" y="14957"/>
                </a:cubicBezTo>
                <a:cubicBezTo>
                  <a:pt x="24468" y="14817"/>
                  <a:pt x="24616" y="14916"/>
                  <a:pt x="24656" y="15032"/>
                </a:cubicBezTo>
                <a:cubicBezTo>
                  <a:pt x="24656" y="15090"/>
                  <a:pt x="24656" y="15131"/>
                  <a:pt x="24656" y="15081"/>
                </a:cubicBezTo>
                <a:cubicBezTo>
                  <a:pt x="24685" y="14993"/>
                  <a:pt x="24760" y="14769"/>
                  <a:pt x="24854" y="14957"/>
                </a:cubicBezTo>
                <a:cubicBezTo>
                  <a:pt x="24895" y="15080"/>
                  <a:pt x="24912" y="15102"/>
                  <a:pt x="24904" y="15180"/>
                </a:cubicBezTo>
              </a:path>
              <a:path w="4590" h="2457">
                <a:moveTo>
                  <a:pt x="22126" y="15056"/>
                </a:moveTo>
                <a:cubicBezTo>
                  <a:pt x="22337" y="15040"/>
                  <a:pt x="22481" y="15079"/>
                  <a:pt x="22696" y="15106"/>
                </a:cubicBezTo>
                <a:cubicBezTo>
                  <a:pt x="23059" y="15151"/>
                  <a:pt x="23424" y="15189"/>
                  <a:pt x="23788" y="15230"/>
                </a:cubicBezTo>
                <a:cubicBezTo>
                  <a:pt x="23973" y="15251"/>
                  <a:pt x="24107" y="15330"/>
                  <a:pt x="24284" y="15354"/>
                </a:cubicBezTo>
                <a:cubicBezTo>
                  <a:pt x="24393" y="15369"/>
                  <a:pt x="24782" y="15395"/>
                  <a:pt x="24829" y="15304"/>
                </a:cubicBezTo>
                <a:cubicBezTo>
                  <a:pt x="24896" y="15174"/>
                  <a:pt x="24925" y="14950"/>
                  <a:pt x="24954" y="14808"/>
                </a:cubicBezTo>
                <a:cubicBezTo>
                  <a:pt x="24986" y="14655"/>
                  <a:pt x="25003" y="14518"/>
                  <a:pt x="25003" y="14362"/>
                </a:cubicBezTo>
                <a:cubicBezTo>
                  <a:pt x="25003" y="14255"/>
                  <a:pt x="25008" y="14156"/>
                  <a:pt x="25028" y="14064"/>
                </a:cubicBezTo>
                <a:cubicBezTo>
                  <a:pt x="24966" y="14069"/>
                  <a:pt x="24844" y="14087"/>
                  <a:pt x="24755" y="14089"/>
                </a:cubicBezTo>
                <a:cubicBezTo>
                  <a:pt x="24455" y="14096"/>
                  <a:pt x="24158" y="14086"/>
                  <a:pt x="23862" y="14114"/>
                </a:cubicBezTo>
                <a:cubicBezTo>
                  <a:pt x="23778" y="14122"/>
                  <a:pt x="23696" y="14130"/>
                  <a:pt x="23614" y="14139"/>
                </a:cubicBezTo>
                <a:cubicBezTo>
                  <a:pt x="23482" y="14153"/>
                  <a:pt x="23347" y="14134"/>
                  <a:pt x="23217" y="14139"/>
                </a:cubicBezTo>
                <a:cubicBezTo>
                  <a:pt x="23016" y="14146"/>
                  <a:pt x="22821" y="14173"/>
                  <a:pt x="22622" y="14188"/>
                </a:cubicBezTo>
                <a:cubicBezTo>
                  <a:pt x="22511" y="14196"/>
                  <a:pt x="22384" y="14193"/>
                  <a:pt x="22275" y="14213"/>
                </a:cubicBezTo>
                <a:cubicBezTo>
                  <a:pt x="22200" y="14227"/>
                  <a:pt x="22094" y="14247"/>
                  <a:pt x="22027" y="14288"/>
                </a:cubicBezTo>
                <a:cubicBezTo>
                  <a:pt x="21962" y="14327"/>
                  <a:pt x="21952" y="14349"/>
                  <a:pt x="21952" y="14461"/>
                </a:cubicBezTo>
                <a:cubicBezTo>
                  <a:pt x="21952" y="14645"/>
                  <a:pt x="21957" y="14822"/>
                  <a:pt x="21952" y="15007"/>
                </a:cubicBezTo>
                <a:cubicBezTo>
                  <a:pt x="21951" y="15061"/>
                  <a:pt x="21969" y="15086"/>
                  <a:pt x="21977" y="1513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ive:  Students will use ratio/proportion to create scale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rawings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Practice: </a:t>
            </a: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1.) The scale of a map is 3 inches: 13miles. If the distance from your house to your friend’s house is 21 miles, how many inches is that on the map?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.) The scale of a drawing is 2 in:3 m. If the drawing of a garden has a length of 7 in, what is the actual length of the garden?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26280" y="2143080"/>
            <a:ext cx="1009800" cy="2517840"/>
          </a:xfrm>
          <a:custGeom>
            <a:avLst/>
            <a:gdLst/>
            <a:ahLst/>
            <a:rect l="l" t="t" r="r" b="b"/>
            <a:pathLst>
              <a:path w="2804" h="6996">
                <a:moveTo>
                  <a:pt x="23862" y="9922"/>
                </a:moveTo>
                <a:cubicBezTo>
                  <a:pt x="23783" y="10073"/>
                  <a:pt x="23754" y="10130"/>
                  <a:pt x="23763" y="10294"/>
                </a:cubicBezTo>
                <a:cubicBezTo>
                  <a:pt x="23898" y="10294"/>
                  <a:pt x="24029" y="10186"/>
                  <a:pt x="23912" y="10021"/>
                </a:cubicBezTo>
                <a:cubicBezTo>
                  <a:pt x="23836" y="9965"/>
                  <a:pt x="23823" y="9962"/>
                  <a:pt x="23788" y="9922"/>
                </a:cubicBezTo>
              </a:path>
              <a:path w="2804" h="6996">
                <a:moveTo>
                  <a:pt x="24061" y="9823"/>
                </a:moveTo>
                <a:cubicBezTo>
                  <a:pt x="24052" y="9865"/>
                  <a:pt x="23997" y="9989"/>
                  <a:pt x="24036" y="10021"/>
                </a:cubicBezTo>
                <a:cubicBezTo>
                  <a:pt x="24126" y="10094"/>
                  <a:pt x="24298" y="9997"/>
                  <a:pt x="24383" y="9971"/>
                </a:cubicBezTo>
              </a:path>
              <a:path w="2804" h="6996">
                <a:moveTo>
                  <a:pt x="24433" y="9674"/>
                </a:moveTo>
                <a:cubicBezTo>
                  <a:pt x="24418" y="9876"/>
                  <a:pt x="24382" y="10091"/>
                  <a:pt x="24408" y="10294"/>
                </a:cubicBezTo>
                <a:cubicBezTo>
                  <a:pt x="24416" y="10311"/>
                  <a:pt x="24425" y="10327"/>
                  <a:pt x="24433" y="10344"/>
                </a:cubicBezTo>
              </a:path>
              <a:path w="2804" h="6996">
                <a:moveTo>
                  <a:pt x="22572" y="10666"/>
                </a:moveTo>
                <a:cubicBezTo>
                  <a:pt x="23256" y="10565"/>
                  <a:pt x="23939" y="10477"/>
                  <a:pt x="24631" y="10443"/>
                </a:cubicBezTo>
                <a:cubicBezTo>
                  <a:pt x="25007" y="10425"/>
                  <a:pt x="24755" y="10434"/>
                  <a:pt x="24730" y="10517"/>
                </a:cubicBezTo>
              </a:path>
              <a:path w="2804" h="6996">
                <a:moveTo>
                  <a:pt x="24333" y="10616"/>
                </a:moveTo>
                <a:cubicBezTo>
                  <a:pt x="24301" y="10779"/>
                  <a:pt x="24168" y="10969"/>
                  <a:pt x="24185" y="11137"/>
                </a:cubicBezTo>
                <a:cubicBezTo>
                  <a:pt x="24201" y="11162"/>
                  <a:pt x="24218" y="11187"/>
                  <a:pt x="24234" y="11212"/>
                </a:cubicBezTo>
                <a:cubicBezTo>
                  <a:pt x="24389" y="11229"/>
                  <a:pt x="24667" y="11245"/>
                  <a:pt x="24681" y="11013"/>
                </a:cubicBezTo>
                <a:cubicBezTo>
                  <a:pt x="24664" y="10988"/>
                  <a:pt x="24648" y="10964"/>
                  <a:pt x="24631" y="10939"/>
                </a:cubicBezTo>
                <a:cubicBezTo>
                  <a:pt x="24426" y="11016"/>
                  <a:pt x="24420" y="11047"/>
                  <a:pt x="24457" y="11261"/>
                </a:cubicBezTo>
              </a:path>
              <a:path w="2804" h="6996">
                <a:moveTo>
                  <a:pt x="25202" y="7094"/>
                </a:moveTo>
                <a:cubicBezTo>
                  <a:pt x="25115" y="7144"/>
                  <a:pt x="25068" y="7238"/>
                  <a:pt x="25053" y="7342"/>
                </a:cubicBezTo>
                <a:cubicBezTo>
                  <a:pt x="25053" y="7476"/>
                  <a:pt x="25043" y="7515"/>
                  <a:pt x="25127" y="7565"/>
                </a:cubicBezTo>
                <a:cubicBezTo>
                  <a:pt x="25260" y="7540"/>
                  <a:pt x="25516" y="7411"/>
                  <a:pt x="25301" y="7243"/>
                </a:cubicBezTo>
                <a:cubicBezTo>
                  <a:pt x="25167" y="7216"/>
                  <a:pt x="25116" y="7211"/>
                  <a:pt x="25028" y="7268"/>
                </a:cubicBezTo>
              </a:path>
              <a:path w="2804" h="6996">
                <a:moveTo>
                  <a:pt x="25102" y="7689"/>
                </a:moveTo>
                <a:cubicBezTo>
                  <a:pt x="25154" y="7856"/>
                  <a:pt x="25158" y="7964"/>
                  <a:pt x="25152" y="8136"/>
                </a:cubicBezTo>
                <a:cubicBezTo>
                  <a:pt x="25132" y="8705"/>
                  <a:pt x="25109" y="9306"/>
                  <a:pt x="25127" y="9872"/>
                </a:cubicBezTo>
                <a:cubicBezTo>
                  <a:pt x="25131" y="9989"/>
                  <a:pt x="25216" y="10284"/>
                  <a:pt x="25152" y="10393"/>
                </a:cubicBezTo>
                <a:cubicBezTo>
                  <a:pt x="25152" y="10426"/>
                  <a:pt x="25144" y="10435"/>
                  <a:pt x="25102" y="10418"/>
                </a:cubicBezTo>
              </a:path>
              <a:path w="2804" h="6996">
                <a:moveTo>
                  <a:pt x="25102" y="10740"/>
                </a:moveTo>
                <a:cubicBezTo>
                  <a:pt x="24972" y="10914"/>
                  <a:pt x="24903" y="10997"/>
                  <a:pt x="25053" y="11162"/>
                </a:cubicBezTo>
                <a:cubicBezTo>
                  <a:pt x="25179" y="11139"/>
                  <a:pt x="25385" y="11066"/>
                  <a:pt x="25226" y="10889"/>
                </a:cubicBezTo>
                <a:cubicBezTo>
                  <a:pt x="25193" y="10873"/>
                  <a:pt x="25160" y="10856"/>
                  <a:pt x="25127" y="10840"/>
                </a:cubicBezTo>
              </a:path>
              <a:path w="2804" h="6996">
                <a:moveTo>
                  <a:pt x="25003" y="6176"/>
                </a:moveTo>
                <a:cubicBezTo>
                  <a:pt x="25016" y="6137"/>
                  <a:pt x="25015" y="6166"/>
                  <a:pt x="25028" y="6127"/>
                </a:cubicBezTo>
                <a:cubicBezTo>
                  <a:pt x="25021" y="6183"/>
                  <a:pt x="24930" y="6394"/>
                  <a:pt x="25028" y="6400"/>
                </a:cubicBezTo>
                <a:cubicBezTo>
                  <a:pt x="25117" y="6406"/>
                  <a:pt x="25220" y="6345"/>
                  <a:pt x="25301" y="6325"/>
                </a:cubicBezTo>
              </a:path>
              <a:path w="2804" h="6996">
                <a:moveTo>
                  <a:pt x="25226" y="5953"/>
                </a:moveTo>
                <a:cubicBezTo>
                  <a:pt x="25226" y="6180"/>
                  <a:pt x="25287" y="6452"/>
                  <a:pt x="25251" y="6672"/>
                </a:cubicBezTo>
                <a:cubicBezTo>
                  <a:pt x="25243" y="6680"/>
                  <a:pt x="25234" y="6689"/>
                  <a:pt x="25226" y="6697"/>
                </a:cubicBezTo>
              </a:path>
              <a:path w="2804" h="6996">
                <a:moveTo>
                  <a:pt x="24557" y="11509"/>
                </a:moveTo>
                <a:cubicBezTo>
                  <a:pt x="24606" y="11436"/>
                  <a:pt x="24447" y="11525"/>
                  <a:pt x="24408" y="11534"/>
                </a:cubicBezTo>
                <a:cubicBezTo>
                  <a:pt x="24345" y="11549"/>
                  <a:pt x="24383" y="11718"/>
                  <a:pt x="24383" y="11782"/>
                </a:cubicBezTo>
                <a:cubicBezTo>
                  <a:pt x="24383" y="11790"/>
                  <a:pt x="24383" y="11799"/>
                  <a:pt x="24383" y="11807"/>
                </a:cubicBezTo>
                <a:cubicBezTo>
                  <a:pt x="24523" y="11767"/>
                  <a:pt x="24606" y="11741"/>
                  <a:pt x="24755" y="11757"/>
                </a:cubicBezTo>
                <a:cubicBezTo>
                  <a:pt x="24755" y="11895"/>
                  <a:pt x="24648" y="12062"/>
                  <a:pt x="24457" y="12005"/>
                </a:cubicBezTo>
                <a:cubicBezTo>
                  <a:pt x="24449" y="11989"/>
                  <a:pt x="24441" y="11972"/>
                  <a:pt x="24433" y="11956"/>
                </a:cubicBezTo>
              </a:path>
              <a:path w="2804" h="6996">
                <a:moveTo>
                  <a:pt x="25003" y="11534"/>
                </a:moveTo>
                <a:cubicBezTo>
                  <a:pt x="25109" y="11473"/>
                  <a:pt x="25305" y="11440"/>
                  <a:pt x="25350" y="11609"/>
                </a:cubicBezTo>
                <a:cubicBezTo>
                  <a:pt x="25414" y="11850"/>
                  <a:pt x="25089" y="11850"/>
                  <a:pt x="24954" y="11857"/>
                </a:cubicBezTo>
                <a:cubicBezTo>
                  <a:pt x="25002" y="11734"/>
                  <a:pt x="25141" y="11768"/>
                  <a:pt x="25251" y="11807"/>
                </a:cubicBezTo>
                <a:cubicBezTo>
                  <a:pt x="25281" y="11837"/>
                  <a:pt x="25286" y="11851"/>
                  <a:pt x="25251" y="11881"/>
                </a:cubicBezTo>
              </a:path>
              <a:path w="2804" h="6996">
                <a:moveTo>
                  <a:pt x="24160" y="11683"/>
                </a:moveTo>
                <a:cubicBezTo>
                  <a:pt x="24210" y="11675"/>
                  <a:pt x="24259" y="11666"/>
                  <a:pt x="24309" y="11658"/>
                </a:cubicBezTo>
              </a:path>
              <a:path w="2804" h="6996">
                <a:moveTo>
                  <a:pt x="24135" y="12204"/>
                </a:moveTo>
                <a:cubicBezTo>
                  <a:pt x="24688" y="12098"/>
                  <a:pt x="24938" y="11982"/>
                  <a:pt x="25251" y="12353"/>
                </a:cubicBezTo>
              </a:path>
              <a:path w="2804" h="6996">
                <a:moveTo>
                  <a:pt x="25226" y="12328"/>
                </a:moveTo>
                <a:cubicBezTo>
                  <a:pt x="25166" y="12354"/>
                  <a:pt x="24917" y="12476"/>
                  <a:pt x="24954" y="12576"/>
                </a:cubicBezTo>
                <a:cubicBezTo>
                  <a:pt x="25001" y="12705"/>
                  <a:pt x="25216" y="12747"/>
                  <a:pt x="25326" y="12799"/>
                </a:cubicBezTo>
                <a:cubicBezTo>
                  <a:pt x="25238" y="12932"/>
                  <a:pt x="25212" y="12924"/>
                  <a:pt x="25053" y="12948"/>
                </a:cubicBezTo>
                <a:cubicBezTo>
                  <a:pt x="25023" y="12731"/>
                  <a:pt x="25326" y="12665"/>
                  <a:pt x="25326" y="12502"/>
                </a:cubicBezTo>
                <a:cubicBezTo>
                  <a:pt x="25301" y="12502"/>
                  <a:pt x="25276" y="12502"/>
                  <a:pt x="25251" y="1250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42160" y="2170080"/>
            <a:ext cx="1135080" cy="1571760"/>
          </a:xfrm>
          <a:custGeom>
            <a:avLst/>
            <a:gdLst/>
            <a:ahLst/>
            <a:rect l="l" t="t" r="r" b="b"/>
            <a:pathLst>
              <a:path w="3151" h="4366">
                <a:moveTo>
                  <a:pt x="22845" y="7441"/>
                </a:moveTo>
                <a:cubicBezTo>
                  <a:pt x="22824" y="7609"/>
                  <a:pt x="22768" y="7792"/>
                  <a:pt x="22771" y="7962"/>
                </a:cubicBezTo>
                <a:cubicBezTo>
                  <a:pt x="22779" y="8003"/>
                  <a:pt x="22788" y="8045"/>
                  <a:pt x="22796" y="8086"/>
                </a:cubicBezTo>
                <a:cubicBezTo>
                  <a:pt x="23042" y="8100"/>
                  <a:pt x="23089" y="8040"/>
                  <a:pt x="23168" y="7813"/>
                </a:cubicBezTo>
                <a:cubicBezTo>
                  <a:pt x="23015" y="7859"/>
                  <a:pt x="22982" y="7912"/>
                  <a:pt x="22994" y="8062"/>
                </a:cubicBezTo>
              </a:path>
              <a:path w="3151" h="4366">
                <a:moveTo>
                  <a:pt x="23366" y="7317"/>
                </a:moveTo>
                <a:cubicBezTo>
                  <a:pt x="23414" y="7305"/>
                  <a:pt x="23750" y="7135"/>
                  <a:pt x="23688" y="7317"/>
                </a:cubicBezTo>
                <a:cubicBezTo>
                  <a:pt x="23663" y="7392"/>
                  <a:pt x="23567" y="7387"/>
                  <a:pt x="23564" y="7466"/>
                </a:cubicBezTo>
                <a:cubicBezTo>
                  <a:pt x="23709" y="7466"/>
                  <a:pt x="23934" y="7496"/>
                  <a:pt x="23862" y="7714"/>
                </a:cubicBezTo>
                <a:cubicBezTo>
                  <a:pt x="23796" y="7912"/>
                  <a:pt x="23615" y="7870"/>
                  <a:pt x="23465" y="7863"/>
                </a:cubicBezTo>
              </a:path>
              <a:path w="3151" h="4366">
                <a:moveTo>
                  <a:pt x="22523" y="8334"/>
                </a:moveTo>
                <a:cubicBezTo>
                  <a:pt x="22479" y="8070"/>
                  <a:pt x="22444" y="7805"/>
                  <a:pt x="22399" y="7541"/>
                </a:cubicBezTo>
                <a:cubicBezTo>
                  <a:pt x="22353" y="7266"/>
                  <a:pt x="22500" y="7339"/>
                  <a:pt x="22746" y="7293"/>
                </a:cubicBezTo>
                <a:cubicBezTo>
                  <a:pt x="23232" y="7203"/>
                  <a:pt x="23717" y="7098"/>
                  <a:pt x="24209" y="7045"/>
                </a:cubicBezTo>
                <a:cubicBezTo>
                  <a:pt x="24234" y="7045"/>
                  <a:pt x="24242" y="7045"/>
                  <a:pt x="24259" y="7045"/>
                </a:cubicBezTo>
              </a:path>
              <a:path w="3151" h="4366">
                <a:moveTo>
                  <a:pt x="21506" y="7590"/>
                </a:moveTo>
                <a:cubicBezTo>
                  <a:pt x="21512" y="7806"/>
                  <a:pt x="21530" y="8019"/>
                  <a:pt x="21530" y="8235"/>
                </a:cubicBezTo>
              </a:path>
              <a:path w="3151" h="4366">
                <a:moveTo>
                  <a:pt x="21853" y="7590"/>
                </a:moveTo>
                <a:cubicBezTo>
                  <a:pt x="21800" y="7538"/>
                  <a:pt x="22008" y="7409"/>
                  <a:pt x="22051" y="7441"/>
                </a:cubicBezTo>
                <a:cubicBezTo>
                  <a:pt x="22170" y="7529"/>
                  <a:pt x="21964" y="7736"/>
                  <a:pt x="21927" y="7789"/>
                </a:cubicBezTo>
                <a:cubicBezTo>
                  <a:pt x="21893" y="7789"/>
                  <a:pt x="22090" y="7751"/>
                  <a:pt x="22151" y="7789"/>
                </a:cubicBezTo>
                <a:cubicBezTo>
                  <a:pt x="22416" y="7955"/>
                  <a:pt x="22116" y="8159"/>
                  <a:pt x="21952" y="8186"/>
                </a:cubicBezTo>
                <a:cubicBezTo>
                  <a:pt x="21868" y="8186"/>
                  <a:pt x="21848" y="8180"/>
                  <a:pt x="21803" y="8210"/>
                </a:cubicBezTo>
              </a:path>
              <a:path w="3151" h="4366">
                <a:moveTo>
                  <a:pt x="23341" y="6424"/>
                </a:moveTo>
                <a:cubicBezTo>
                  <a:pt x="23352" y="6393"/>
                  <a:pt x="23363" y="6387"/>
                  <a:pt x="23391" y="6350"/>
                </a:cubicBezTo>
                <a:cubicBezTo>
                  <a:pt x="23379" y="6449"/>
                  <a:pt x="23353" y="6549"/>
                  <a:pt x="23341" y="6648"/>
                </a:cubicBezTo>
                <a:cubicBezTo>
                  <a:pt x="23489" y="6598"/>
                  <a:pt x="23599" y="6543"/>
                  <a:pt x="23763" y="6524"/>
                </a:cubicBezTo>
              </a:path>
              <a:path w="3151" h="4366">
                <a:moveTo>
                  <a:pt x="23688" y="6028"/>
                </a:moveTo>
                <a:cubicBezTo>
                  <a:pt x="23669" y="6243"/>
                  <a:pt x="23577" y="6648"/>
                  <a:pt x="23639" y="6846"/>
                </a:cubicBezTo>
                <a:cubicBezTo>
                  <a:pt x="23655" y="6846"/>
                  <a:pt x="23672" y="6846"/>
                  <a:pt x="23688" y="6846"/>
                </a:cubicBezTo>
              </a:path>
              <a:path w="3151" h="4366">
                <a:moveTo>
                  <a:pt x="23465" y="8359"/>
                </a:moveTo>
                <a:cubicBezTo>
                  <a:pt x="23522" y="8288"/>
                  <a:pt x="23764" y="8193"/>
                  <a:pt x="23862" y="8285"/>
                </a:cubicBezTo>
                <a:cubicBezTo>
                  <a:pt x="24075" y="8485"/>
                  <a:pt x="23707" y="8752"/>
                  <a:pt x="23540" y="8781"/>
                </a:cubicBezTo>
                <a:cubicBezTo>
                  <a:pt x="23523" y="8773"/>
                  <a:pt x="23507" y="8764"/>
                  <a:pt x="23490" y="8756"/>
                </a:cubicBezTo>
                <a:cubicBezTo>
                  <a:pt x="23627" y="8593"/>
                  <a:pt x="23685" y="8681"/>
                  <a:pt x="23887" y="8731"/>
                </a:cubicBezTo>
                <a:cubicBezTo>
                  <a:pt x="23904" y="8731"/>
                  <a:pt x="23920" y="8731"/>
                  <a:pt x="23937" y="8731"/>
                </a:cubicBezTo>
              </a:path>
              <a:path w="3151" h="4366">
                <a:moveTo>
                  <a:pt x="23143" y="8409"/>
                </a:moveTo>
                <a:cubicBezTo>
                  <a:pt x="22991" y="8363"/>
                  <a:pt x="22954" y="8350"/>
                  <a:pt x="22895" y="8508"/>
                </a:cubicBezTo>
                <a:cubicBezTo>
                  <a:pt x="22876" y="8582"/>
                  <a:pt x="22868" y="8589"/>
                  <a:pt x="22870" y="8632"/>
                </a:cubicBezTo>
                <a:cubicBezTo>
                  <a:pt x="23040" y="8608"/>
                  <a:pt x="23168" y="8595"/>
                  <a:pt x="23341" y="8607"/>
                </a:cubicBezTo>
                <a:cubicBezTo>
                  <a:pt x="23341" y="8811"/>
                  <a:pt x="23216" y="8955"/>
                  <a:pt x="22969" y="8930"/>
                </a:cubicBezTo>
                <a:cubicBezTo>
                  <a:pt x="22944" y="8913"/>
                  <a:pt x="22920" y="8897"/>
                  <a:pt x="22895" y="8880"/>
                </a:cubicBezTo>
              </a:path>
              <a:path w="3151" h="4366">
                <a:moveTo>
                  <a:pt x="22250" y="8756"/>
                </a:moveTo>
                <a:cubicBezTo>
                  <a:pt x="22440" y="8729"/>
                  <a:pt x="22514" y="8718"/>
                  <a:pt x="22647" y="8706"/>
                </a:cubicBezTo>
              </a:path>
              <a:path w="3151" h="4366">
                <a:moveTo>
                  <a:pt x="22299" y="9252"/>
                </a:moveTo>
                <a:cubicBezTo>
                  <a:pt x="22806" y="9131"/>
                  <a:pt x="23318" y="8990"/>
                  <a:pt x="23837" y="8930"/>
                </a:cubicBezTo>
                <a:cubicBezTo>
                  <a:pt x="23945" y="8930"/>
                  <a:pt x="23953" y="8930"/>
                  <a:pt x="24011" y="8930"/>
                </a:cubicBezTo>
              </a:path>
              <a:path w="3151" h="4366">
                <a:moveTo>
                  <a:pt x="23044" y="9153"/>
                </a:moveTo>
                <a:cubicBezTo>
                  <a:pt x="23082" y="9345"/>
                  <a:pt x="23074" y="9456"/>
                  <a:pt x="23044" y="9649"/>
                </a:cubicBezTo>
                <a:cubicBezTo>
                  <a:pt x="23044" y="9684"/>
                  <a:pt x="23053" y="9688"/>
                  <a:pt x="23093" y="9649"/>
                </a:cubicBezTo>
              </a:path>
              <a:path w="3151" h="4366">
                <a:moveTo>
                  <a:pt x="23688" y="9153"/>
                </a:moveTo>
                <a:cubicBezTo>
                  <a:pt x="23707" y="9285"/>
                  <a:pt x="23713" y="9683"/>
                  <a:pt x="23713" y="9550"/>
                </a:cubicBezTo>
                <a:cubicBezTo>
                  <a:pt x="23713" y="9533"/>
                  <a:pt x="23713" y="9517"/>
                  <a:pt x="23713" y="9500"/>
                </a:cubicBezTo>
              </a:path>
              <a:path w="3151" h="4366">
                <a:moveTo>
                  <a:pt x="24160" y="7863"/>
                </a:moveTo>
                <a:cubicBezTo>
                  <a:pt x="24185" y="7863"/>
                  <a:pt x="24193" y="7863"/>
                  <a:pt x="24185" y="7838"/>
                </a:cubicBezTo>
              </a:path>
              <a:path w="3151" h="4366">
                <a:moveTo>
                  <a:pt x="24036" y="6772"/>
                </a:moveTo>
                <a:lnTo>
                  <a:pt x="24036" y="6772"/>
                </a:lnTo>
                <a:lnTo>
                  <a:pt x="24036" y="6772"/>
                </a:lnTo>
              </a:path>
              <a:path w="3151" h="4366">
                <a:moveTo>
                  <a:pt x="24333" y="7094"/>
                </a:moveTo>
                <a:cubicBezTo>
                  <a:pt x="24290" y="7267"/>
                  <a:pt x="24293" y="7323"/>
                  <a:pt x="24358" y="7491"/>
                </a:cubicBezTo>
                <a:cubicBezTo>
                  <a:pt x="24567" y="7503"/>
                  <a:pt x="24667" y="7455"/>
                  <a:pt x="24656" y="7218"/>
                </a:cubicBezTo>
                <a:cubicBezTo>
                  <a:pt x="24649" y="7071"/>
                  <a:pt x="24568" y="7101"/>
                  <a:pt x="24457" y="7094"/>
                </a:cubicBezTo>
              </a:path>
              <a:path w="3151" h="4366">
                <a:moveTo>
                  <a:pt x="24482" y="7665"/>
                </a:moveTo>
                <a:cubicBezTo>
                  <a:pt x="24507" y="7857"/>
                  <a:pt x="24507" y="8039"/>
                  <a:pt x="24507" y="8235"/>
                </a:cubicBezTo>
                <a:cubicBezTo>
                  <a:pt x="24507" y="8452"/>
                  <a:pt x="24532" y="8663"/>
                  <a:pt x="24532" y="8880"/>
                </a:cubicBezTo>
              </a:path>
              <a:path w="3151" h="4366">
                <a:moveTo>
                  <a:pt x="24408" y="9128"/>
                </a:moveTo>
                <a:cubicBezTo>
                  <a:pt x="24288" y="9115"/>
                  <a:pt x="24155" y="9249"/>
                  <a:pt x="24185" y="9401"/>
                </a:cubicBezTo>
                <a:cubicBezTo>
                  <a:pt x="24224" y="9594"/>
                  <a:pt x="24552" y="9612"/>
                  <a:pt x="24606" y="9426"/>
                </a:cubicBezTo>
                <a:cubicBezTo>
                  <a:pt x="24652" y="9267"/>
                  <a:pt x="24570" y="9159"/>
                  <a:pt x="24433" y="9128"/>
                </a:cubicBezTo>
              </a:path>
              <a:path w="3151" h="4366">
                <a:moveTo>
                  <a:pt x="24532" y="6052"/>
                </a:moveTo>
                <a:cubicBezTo>
                  <a:pt x="24406" y="6067"/>
                  <a:pt x="24326" y="6097"/>
                  <a:pt x="24209" y="6152"/>
                </a:cubicBezTo>
                <a:cubicBezTo>
                  <a:pt x="24271" y="6317"/>
                  <a:pt x="24581" y="6378"/>
                  <a:pt x="24606" y="6548"/>
                </a:cubicBezTo>
                <a:cubicBezTo>
                  <a:pt x="24627" y="6693"/>
                  <a:pt x="24508" y="6705"/>
                  <a:pt x="24433" y="6697"/>
                </a:cubicBezTo>
                <a:cubicBezTo>
                  <a:pt x="24451" y="6489"/>
                  <a:pt x="24521" y="6303"/>
                  <a:pt x="24557" y="6102"/>
                </a:cubicBezTo>
              </a:path>
              <a:path w="3151" h="4366">
                <a:moveTo>
                  <a:pt x="23068" y="9897"/>
                </a:moveTo>
                <a:cubicBezTo>
                  <a:pt x="23072" y="9956"/>
                  <a:pt x="23051" y="10381"/>
                  <a:pt x="23068" y="10393"/>
                </a:cubicBezTo>
                <a:cubicBezTo>
                  <a:pt x="23085" y="10377"/>
                  <a:pt x="23101" y="10360"/>
                  <a:pt x="23118" y="1034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76920" y="3813120"/>
            <a:ext cx="1920960" cy="642960"/>
          </a:xfrm>
          <a:custGeom>
            <a:avLst/>
            <a:gdLst/>
            <a:ahLst/>
            <a:rect l="l" t="t" r="r" b="b"/>
            <a:pathLst>
              <a:path w="5334" h="1787">
                <a:moveTo>
                  <a:pt x="16495" y="10988"/>
                </a:moveTo>
                <a:cubicBezTo>
                  <a:pt x="16524" y="11125"/>
                  <a:pt x="16529" y="11545"/>
                  <a:pt x="16718" y="11559"/>
                </a:cubicBezTo>
                <a:cubicBezTo>
                  <a:pt x="16926" y="11575"/>
                  <a:pt x="16931" y="11246"/>
                  <a:pt x="16966" y="11112"/>
                </a:cubicBezTo>
                <a:cubicBezTo>
                  <a:pt x="16997" y="11355"/>
                  <a:pt x="17038" y="11586"/>
                  <a:pt x="16991" y="11832"/>
                </a:cubicBezTo>
                <a:cubicBezTo>
                  <a:pt x="16956" y="12017"/>
                  <a:pt x="16691" y="12442"/>
                  <a:pt x="16446" y="12204"/>
                </a:cubicBezTo>
                <a:cubicBezTo>
                  <a:pt x="16438" y="12163"/>
                  <a:pt x="16429" y="12121"/>
                  <a:pt x="16421" y="12080"/>
                </a:cubicBezTo>
              </a:path>
              <a:path w="5334" h="1787">
                <a:moveTo>
                  <a:pt x="17314" y="11261"/>
                </a:moveTo>
                <a:cubicBezTo>
                  <a:pt x="17457" y="11254"/>
                  <a:pt x="17594" y="11230"/>
                  <a:pt x="17735" y="11212"/>
                </a:cubicBezTo>
              </a:path>
              <a:path w="5334" h="1787">
                <a:moveTo>
                  <a:pt x="17363" y="11485"/>
                </a:moveTo>
                <a:cubicBezTo>
                  <a:pt x="17527" y="11479"/>
                  <a:pt x="17674" y="11467"/>
                  <a:pt x="17835" y="11435"/>
                </a:cubicBezTo>
              </a:path>
              <a:path w="5334" h="1787">
                <a:moveTo>
                  <a:pt x="19769" y="10592"/>
                </a:moveTo>
                <a:cubicBezTo>
                  <a:pt x="19665" y="10621"/>
                  <a:pt x="19606" y="10636"/>
                  <a:pt x="19496" y="10641"/>
                </a:cubicBezTo>
                <a:cubicBezTo>
                  <a:pt x="19370" y="10646"/>
                  <a:pt x="19245" y="10659"/>
                  <a:pt x="19124" y="10666"/>
                </a:cubicBezTo>
                <a:cubicBezTo>
                  <a:pt x="18571" y="10700"/>
                  <a:pt x="18014" y="10687"/>
                  <a:pt x="17462" y="10716"/>
                </a:cubicBezTo>
                <a:cubicBezTo>
                  <a:pt x="17288" y="10725"/>
                  <a:pt x="17115" y="10737"/>
                  <a:pt x="16942" y="10740"/>
                </a:cubicBezTo>
                <a:cubicBezTo>
                  <a:pt x="16781" y="10743"/>
                  <a:pt x="16628" y="10746"/>
                  <a:pt x="16470" y="10765"/>
                </a:cubicBezTo>
                <a:cubicBezTo>
                  <a:pt x="16372" y="10777"/>
                  <a:pt x="16271" y="10776"/>
                  <a:pt x="16173" y="10790"/>
                </a:cubicBezTo>
                <a:cubicBezTo>
                  <a:pt x="16107" y="10799"/>
                  <a:pt x="16124" y="10802"/>
                  <a:pt x="16049" y="10815"/>
                </a:cubicBezTo>
                <a:cubicBezTo>
                  <a:pt x="16064" y="10888"/>
                  <a:pt x="16081" y="10963"/>
                  <a:pt x="16098" y="11038"/>
                </a:cubicBezTo>
                <a:cubicBezTo>
                  <a:pt x="16143" y="11237"/>
                  <a:pt x="16144" y="11455"/>
                  <a:pt x="16148" y="11658"/>
                </a:cubicBezTo>
                <a:cubicBezTo>
                  <a:pt x="16150" y="11785"/>
                  <a:pt x="16154" y="11888"/>
                  <a:pt x="16173" y="12005"/>
                </a:cubicBezTo>
                <a:cubicBezTo>
                  <a:pt x="16181" y="12056"/>
                  <a:pt x="16173" y="12147"/>
                  <a:pt x="16222" y="12179"/>
                </a:cubicBezTo>
                <a:cubicBezTo>
                  <a:pt x="16255" y="12201"/>
                  <a:pt x="16495" y="12217"/>
                  <a:pt x="16545" y="12229"/>
                </a:cubicBezTo>
                <a:cubicBezTo>
                  <a:pt x="16666" y="12259"/>
                  <a:pt x="16819" y="12290"/>
                  <a:pt x="16942" y="12303"/>
                </a:cubicBezTo>
                <a:cubicBezTo>
                  <a:pt x="17063" y="12316"/>
                  <a:pt x="17172" y="12283"/>
                  <a:pt x="17289" y="12278"/>
                </a:cubicBezTo>
                <a:cubicBezTo>
                  <a:pt x="17621" y="12264"/>
                  <a:pt x="17953" y="12291"/>
                  <a:pt x="18281" y="12328"/>
                </a:cubicBezTo>
                <a:cubicBezTo>
                  <a:pt x="18472" y="12349"/>
                  <a:pt x="18660" y="12374"/>
                  <a:pt x="18852" y="12378"/>
                </a:cubicBezTo>
                <a:cubicBezTo>
                  <a:pt x="19217" y="12385"/>
                  <a:pt x="19580" y="12369"/>
                  <a:pt x="19943" y="12353"/>
                </a:cubicBezTo>
                <a:cubicBezTo>
                  <a:pt x="20176" y="12342"/>
                  <a:pt x="20406" y="12315"/>
                  <a:pt x="20638" y="12303"/>
                </a:cubicBezTo>
                <a:cubicBezTo>
                  <a:pt x="20764" y="12296"/>
                  <a:pt x="20885" y="12288"/>
                  <a:pt x="21010" y="12278"/>
                </a:cubicBezTo>
                <a:cubicBezTo>
                  <a:pt x="21116" y="12269"/>
                  <a:pt x="21225" y="12239"/>
                  <a:pt x="21332" y="12229"/>
                </a:cubicBezTo>
                <a:cubicBezTo>
                  <a:pt x="21357" y="12229"/>
                  <a:pt x="21365" y="12229"/>
                  <a:pt x="21382" y="12229"/>
                </a:cubicBezTo>
                <a:cubicBezTo>
                  <a:pt x="21366" y="12139"/>
                  <a:pt x="21349" y="12047"/>
                  <a:pt x="21332" y="11956"/>
                </a:cubicBezTo>
                <a:cubicBezTo>
                  <a:pt x="21294" y="11745"/>
                  <a:pt x="21246" y="11525"/>
                  <a:pt x="21233" y="11311"/>
                </a:cubicBezTo>
                <a:cubicBezTo>
                  <a:pt x="21225" y="11189"/>
                  <a:pt x="21229" y="11082"/>
                  <a:pt x="21208" y="10964"/>
                </a:cubicBezTo>
                <a:cubicBezTo>
                  <a:pt x="21199" y="10913"/>
                  <a:pt x="21192" y="10864"/>
                  <a:pt x="21183" y="10815"/>
                </a:cubicBezTo>
                <a:cubicBezTo>
                  <a:pt x="20958" y="10815"/>
                  <a:pt x="20734" y="10800"/>
                  <a:pt x="20513" y="10790"/>
                </a:cubicBezTo>
                <a:cubicBezTo>
                  <a:pt x="20363" y="10783"/>
                  <a:pt x="20216" y="10768"/>
                  <a:pt x="20067" y="10765"/>
                </a:cubicBezTo>
                <a:cubicBezTo>
                  <a:pt x="19915" y="10762"/>
                  <a:pt x="19770" y="10748"/>
                  <a:pt x="19621" y="10740"/>
                </a:cubicBezTo>
                <a:cubicBezTo>
                  <a:pt x="19540" y="10735"/>
                  <a:pt x="19438" y="10720"/>
                  <a:pt x="19372" y="10716"/>
                </a:cubicBezTo>
                <a:cubicBezTo>
                  <a:pt x="19209" y="10707"/>
                  <a:pt x="18973" y="10722"/>
                  <a:pt x="18852" y="1074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52960" y="4813200"/>
            <a:ext cx="1017360" cy="44640"/>
          </a:xfrm>
          <a:custGeom>
            <a:avLst/>
            <a:gdLst/>
            <a:ahLst/>
            <a:rect l="l" t="t" r="r" b="b"/>
            <a:pathLst>
              <a:path w="2829" h="125">
                <a:moveTo>
                  <a:pt x="11534" y="13370"/>
                </a:moveTo>
                <a:cubicBezTo>
                  <a:pt x="11643" y="13395"/>
                  <a:pt x="11741" y="13384"/>
                  <a:pt x="11857" y="13395"/>
                </a:cubicBezTo>
                <a:cubicBezTo>
                  <a:pt x="12073" y="13415"/>
                  <a:pt x="12284" y="13419"/>
                  <a:pt x="12502" y="13419"/>
                </a:cubicBezTo>
                <a:cubicBezTo>
                  <a:pt x="12664" y="13419"/>
                  <a:pt x="12812" y="13466"/>
                  <a:pt x="12973" y="13469"/>
                </a:cubicBezTo>
                <a:cubicBezTo>
                  <a:pt x="13232" y="13474"/>
                  <a:pt x="13487" y="13473"/>
                  <a:pt x="13742" y="13494"/>
                </a:cubicBezTo>
                <a:cubicBezTo>
                  <a:pt x="13880" y="13506"/>
                  <a:pt x="14023" y="13469"/>
                  <a:pt x="14163" y="13469"/>
                </a:cubicBezTo>
                <a:cubicBezTo>
                  <a:pt x="14241" y="13469"/>
                  <a:pt x="14297" y="13472"/>
                  <a:pt x="14362" y="1349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38320" y="5330880"/>
            <a:ext cx="455760" cy="857160"/>
          </a:xfrm>
          <a:custGeom>
            <a:avLst/>
            <a:gdLst/>
            <a:ahLst/>
            <a:rect l="l" t="t" r="r" b="b"/>
            <a:pathLst>
              <a:path w="1266" h="2383">
                <a:moveTo>
                  <a:pt x="8582" y="14858"/>
                </a:moveTo>
                <a:cubicBezTo>
                  <a:pt x="8557" y="14962"/>
                  <a:pt x="8620" y="14803"/>
                  <a:pt x="8756" y="14808"/>
                </a:cubicBezTo>
                <a:cubicBezTo>
                  <a:pt x="9211" y="14826"/>
                  <a:pt x="8809" y="15414"/>
                  <a:pt x="8657" y="15528"/>
                </a:cubicBezTo>
                <a:cubicBezTo>
                  <a:pt x="8530" y="15570"/>
                  <a:pt x="8499" y="15599"/>
                  <a:pt x="8434" y="15528"/>
                </a:cubicBezTo>
                <a:cubicBezTo>
                  <a:pt x="8604" y="15324"/>
                  <a:pt x="8747" y="15268"/>
                  <a:pt x="9004" y="15429"/>
                </a:cubicBezTo>
                <a:cubicBezTo>
                  <a:pt x="9078" y="15503"/>
                  <a:pt x="9087" y="15512"/>
                  <a:pt x="9128" y="15553"/>
                </a:cubicBezTo>
              </a:path>
              <a:path w="1266" h="2383">
                <a:moveTo>
                  <a:pt x="8161" y="15999"/>
                </a:moveTo>
                <a:cubicBezTo>
                  <a:pt x="8591" y="15933"/>
                  <a:pt x="9003" y="15827"/>
                  <a:pt x="9426" y="15925"/>
                </a:cubicBezTo>
              </a:path>
              <a:path w="1266" h="2383">
                <a:moveTo>
                  <a:pt x="8558" y="16396"/>
                </a:moveTo>
                <a:cubicBezTo>
                  <a:pt x="8757" y="16379"/>
                  <a:pt x="8878" y="16355"/>
                  <a:pt x="9054" y="16421"/>
                </a:cubicBezTo>
                <a:cubicBezTo>
                  <a:pt x="8958" y="16530"/>
                  <a:pt x="8881" y="16595"/>
                  <a:pt x="8756" y="16669"/>
                </a:cubicBezTo>
                <a:cubicBezTo>
                  <a:pt x="8903" y="16669"/>
                  <a:pt x="9080" y="16686"/>
                  <a:pt x="9153" y="16842"/>
                </a:cubicBezTo>
                <a:cubicBezTo>
                  <a:pt x="9275" y="17102"/>
                  <a:pt x="8862" y="17196"/>
                  <a:pt x="8706" y="17190"/>
                </a:cubicBezTo>
                <a:cubicBezTo>
                  <a:pt x="8600" y="17169"/>
                  <a:pt x="8572" y="17174"/>
                  <a:pt x="8533" y="1711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0200" y="3143160"/>
            <a:ext cx="428760" cy="785880"/>
          </a:xfrm>
          <a:custGeom>
            <a:avLst/>
            <a:gdLst/>
            <a:ahLst/>
            <a:rect l="l" t="t" r="r" b="b"/>
            <a:pathLst>
              <a:path w="1192" h="2184">
                <a:moveTo>
                  <a:pt x="4217" y="8954"/>
                </a:moveTo>
                <a:cubicBezTo>
                  <a:pt x="4225" y="8993"/>
                  <a:pt x="4328" y="9319"/>
                  <a:pt x="4266" y="9351"/>
                </a:cubicBezTo>
                <a:cubicBezTo>
                  <a:pt x="4250" y="9335"/>
                  <a:pt x="4233" y="9318"/>
                  <a:pt x="4217" y="9302"/>
                </a:cubicBezTo>
              </a:path>
              <a:path w="1192" h="2184">
                <a:moveTo>
                  <a:pt x="4118" y="8731"/>
                </a:moveTo>
                <a:cubicBezTo>
                  <a:pt x="4134" y="8739"/>
                  <a:pt x="4151" y="8748"/>
                  <a:pt x="4167" y="8756"/>
                </a:cubicBezTo>
              </a:path>
              <a:path w="1192" h="2184">
                <a:moveTo>
                  <a:pt x="4539" y="9227"/>
                </a:moveTo>
                <a:cubicBezTo>
                  <a:pt x="4539" y="9320"/>
                  <a:pt x="4584" y="9028"/>
                  <a:pt x="4614" y="8954"/>
                </a:cubicBezTo>
                <a:cubicBezTo>
                  <a:pt x="4775" y="8984"/>
                  <a:pt x="4850" y="9058"/>
                  <a:pt x="4887" y="9227"/>
                </a:cubicBezTo>
                <a:cubicBezTo>
                  <a:pt x="4887" y="9312"/>
                  <a:pt x="4894" y="9332"/>
                  <a:pt x="4862" y="9376"/>
                </a:cubicBezTo>
              </a:path>
              <a:path w="1192" h="2184">
                <a:moveTo>
                  <a:pt x="3696" y="9649"/>
                </a:moveTo>
                <a:cubicBezTo>
                  <a:pt x="3986" y="9634"/>
                  <a:pt x="4275" y="9599"/>
                  <a:pt x="4564" y="9575"/>
                </a:cubicBezTo>
                <a:cubicBezTo>
                  <a:pt x="4604" y="9572"/>
                  <a:pt x="4647" y="9575"/>
                  <a:pt x="4688" y="9575"/>
                </a:cubicBezTo>
              </a:path>
              <a:path w="1192" h="2184">
                <a:moveTo>
                  <a:pt x="3696" y="10443"/>
                </a:moveTo>
                <a:cubicBezTo>
                  <a:pt x="3705" y="10584"/>
                  <a:pt x="3716" y="10722"/>
                  <a:pt x="3721" y="10864"/>
                </a:cubicBezTo>
                <a:cubicBezTo>
                  <a:pt x="3721" y="10981"/>
                  <a:pt x="3715" y="10549"/>
                  <a:pt x="3746" y="10492"/>
                </a:cubicBezTo>
                <a:cubicBezTo>
                  <a:pt x="3853" y="10296"/>
                  <a:pt x="4053" y="10713"/>
                  <a:pt x="4068" y="10765"/>
                </a:cubicBezTo>
                <a:cubicBezTo>
                  <a:pt x="4068" y="10773"/>
                  <a:pt x="4068" y="10782"/>
                  <a:pt x="4068" y="10790"/>
                </a:cubicBezTo>
                <a:cubicBezTo>
                  <a:pt x="4068" y="10657"/>
                  <a:pt x="4034" y="10546"/>
                  <a:pt x="4142" y="10443"/>
                </a:cubicBezTo>
                <a:cubicBezTo>
                  <a:pt x="4167" y="10435"/>
                  <a:pt x="4192" y="10426"/>
                  <a:pt x="4217" y="10418"/>
                </a:cubicBezTo>
                <a:cubicBezTo>
                  <a:pt x="4377" y="10538"/>
                  <a:pt x="4444" y="10633"/>
                  <a:pt x="4465" y="10840"/>
                </a:cubicBezTo>
                <a:cubicBezTo>
                  <a:pt x="4465" y="10848"/>
                  <a:pt x="4465" y="10856"/>
                  <a:pt x="4465" y="10864"/>
                </a:cubicBezTo>
              </a:path>
              <a:path w="1192" h="2184">
                <a:moveTo>
                  <a:pt x="4713" y="10517"/>
                </a:moveTo>
                <a:cubicBezTo>
                  <a:pt x="4748" y="10633"/>
                  <a:pt x="4778" y="10748"/>
                  <a:pt x="4812" y="10864"/>
                </a:cubicBezTo>
              </a:path>
              <a:path w="1192" h="2184">
                <a:moveTo>
                  <a:pt x="4663" y="10294"/>
                </a:moveTo>
                <a:cubicBezTo>
                  <a:pt x="4638" y="10294"/>
                  <a:pt x="4630" y="10294"/>
                  <a:pt x="4638" y="1031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01920" y="3044880"/>
            <a:ext cx="2376360" cy="857160"/>
          </a:xfrm>
          <a:custGeom>
            <a:avLst/>
            <a:gdLst/>
            <a:ahLst/>
            <a:rect l="l" t="t" r="r" b="b"/>
            <a:pathLst>
              <a:path w="6600" h="2383">
                <a:moveTo>
                  <a:pt x="7516" y="8483"/>
                </a:moveTo>
                <a:cubicBezTo>
                  <a:pt x="7650" y="8483"/>
                  <a:pt x="7743" y="8468"/>
                  <a:pt x="7863" y="8508"/>
                </a:cubicBezTo>
                <a:cubicBezTo>
                  <a:pt x="7753" y="8692"/>
                  <a:pt x="7676" y="8730"/>
                  <a:pt x="7491" y="8830"/>
                </a:cubicBezTo>
                <a:cubicBezTo>
                  <a:pt x="7575" y="8808"/>
                  <a:pt x="7902" y="8712"/>
                  <a:pt x="7813" y="8930"/>
                </a:cubicBezTo>
                <a:cubicBezTo>
                  <a:pt x="7764" y="9049"/>
                  <a:pt x="7387" y="9312"/>
                  <a:pt x="7268" y="9153"/>
                </a:cubicBezTo>
                <a:cubicBezTo>
                  <a:pt x="7284" y="9136"/>
                  <a:pt x="7301" y="9120"/>
                  <a:pt x="7317" y="9103"/>
                </a:cubicBezTo>
              </a:path>
              <a:path w="6600" h="2383">
                <a:moveTo>
                  <a:pt x="6672" y="9649"/>
                </a:moveTo>
                <a:cubicBezTo>
                  <a:pt x="7134" y="9591"/>
                  <a:pt x="7596" y="9521"/>
                  <a:pt x="8062" y="9500"/>
                </a:cubicBezTo>
                <a:cubicBezTo>
                  <a:pt x="8286" y="9490"/>
                  <a:pt x="8374" y="9449"/>
                  <a:pt x="8285" y="9575"/>
                </a:cubicBezTo>
              </a:path>
              <a:path w="6600" h="2383">
                <a:moveTo>
                  <a:pt x="7243" y="10319"/>
                </a:moveTo>
                <a:cubicBezTo>
                  <a:pt x="7241" y="10334"/>
                  <a:pt x="7053" y="11020"/>
                  <a:pt x="7218" y="10740"/>
                </a:cubicBezTo>
              </a:path>
              <a:path w="6600" h="2383">
                <a:moveTo>
                  <a:pt x="7789" y="10046"/>
                </a:moveTo>
                <a:cubicBezTo>
                  <a:pt x="7860" y="10039"/>
                  <a:pt x="8152" y="9955"/>
                  <a:pt x="8086" y="10120"/>
                </a:cubicBezTo>
                <a:cubicBezTo>
                  <a:pt x="7990" y="10240"/>
                  <a:pt x="7961" y="10279"/>
                  <a:pt x="7863" y="10319"/>
                </a:cubicBezTo>
                <a:cubicBezTo>
                  <a:pt x="7855" y="10327"/>
                  <a:pt x="7846" y="10336"/>
                  <a:pt x="7838" y="10344"/>
                </a:cubicBezTo>
                <a:cubicBezTo>
                  <a:pt x="7949" y="10302"/>
                  <a:pt x="8033" y="10329"/>
                  <a:pt x="8161" y="10344"/>
                </a:cubicBezTo>
                <a:cubicBezTo>
                  <a:pt x="8161" y="10597"/>
                  <a:pt x="8010" y="10651"/>
                  <a:pt x="7764" y="10716"/>
                </a:cubicBezTo>
                <a:cubicBezTo>
                  <a:pt x="7704" y="10716"/>
                  <a:pt x="7691" y="10707"/>
                  <a:pt x="7739" y="10641"/>
                </a:cubicBezTo>
              </a:path>
              <a:path w="6600" h="2383">
                <a:moveTo>
                  <a:pt x="9500" y="9327"/>
                </a:moveTo>
                <a:cubicBezTo>
                  <a:pt x="9620" y="9317"/>
                  <a:pt x="9832" y="9232"/>
                  <a:pt x="9947" y="9277"/>
                </a:cubicBezTo>
                <a:cubicBezTo>
                  <a:pt x="9955" y="9294"/>
                  <a:pt x="9963" y="9310"/>
                  <a:pt x="9971" y="9327"/>
                </a:cubicBezTo>
              </a:path>
              <a:path w="6600" h="2383">
                <a:moveTo>
                  <a:pt x="9550" y="9699"/>
                </a:moveTo>
                <a:cubicBezTo>
                  <a:pt x="9706" y="9727"/>
                  <a:pt x="9859" y="9662"/>
                  <a:pt x="9996" y="9674"/>
                </a:cubicBezTo>
                <a:cubicBezTo>
                  <a:pt x="9996" y="9682"/>
                  <a:pt x="9996" y="9691"/>
                  <a:pt x="9996" y="9699"/>
                </a:cubicBezTo>
              </a:path>
              <a:path w="6600" h="2383">
                <a:moveTo>
                  <a:pt x="11137" y="9624"/>
                </a:moveTo>
                <a:cubicBezTo>
                  <a:pt x="11367" y="9601"/>
                  <a:pt x="11599" y="9567"/>
                  <a:pt x="11832" y="9550"/>
                </a:cubicBezTo>
                <a:cubicBezTo>
                  <a:pt x="12274" y="9518"/>
                  <a:pt x="12704" y="9569"/>
                  <a:pt x="13146" y="9575"/>
                </a:cubicBezTo>
                <a:cubicBezTo>
                  <a:pt x="13188" y="9575"/>
                  <a:pt x="13229" y="9575"/>
                  <a:pt x="13271" y="9575"/>
                </a:cubicBezTo>
              </a:path>
              <a:path w="6600" h="2383">
                <a:moveTo>
                  <a:pt x="11832" y="9872"/>
                </a:moveTo>
                <a:cubicBezTo>
                  <a:pt x="11832" y="9880"/>
                  <a:pt x="11832" y="9889"/>
                  <a:pt x="11832" y="9897"/>
                </a:cubicBezTo>
                <a:cubicBezTo>
                  <a:pt x="11656" y="10052"/>
                  <a:pt x="11815" y="9831"/>
                  <a:pt x="11931" y="9897"/>
                </a:cubicBezTo>
                <a:cubicBezTo>
                  <a:pt x="12190" y="10045"/>
                  <a:pt x="11956" y="10294"/>
                  <a:pt x="11782" y="10368"/>
                </a:cubicBezTo>
                <a:cubicBezTo>
                  <a:pt x="11681" y="10411"/>
                  <a:pt x="11553" y="10383"/>
                  <a:pt x="11509" y="10294"/>
                </a:cubicBezTo>
                <a:cubicBezTo>
                  <a:pt x="11688" y="10234"/>
                  <a:pt x="11877" y="10163"/>
                  <a:pt x="12005" y="10368"/>
                </a:cubicBezTo>
                <a:cubicBezTo>
                  <a:pt x="12024" y="10442"/>
                  <a:pt x="12032" y="10449"/>
                  <a:pt x="12030" y="10492"/>
                </a:cubicBezTo>
              </a:path>
              <a:path w="6600" h="2383">
                <a:moveTo>
                  <a:pt x="12551" y="9922"/>
                </a:moveTo>
                <a:cubicBezTo>
                  <a:pt x="12551" y="9914"/>
                  <a:pt x="12551" y="9905"/>
                  <a:pt x="12551" y="9897"/>
                </a:cubicBezTo>
                <a:cubicBezTo>
                  <a:pt x="12496" y="9915"/>
                  <a:pt x="12526" y="10108"/>
                  <a:pt x="12526" y="10145"/>
                </a:cubicBezTo>
                <a:cubicBezTo>
                  <a:pt x="12526" y="10244"/>
                  <a:pt x="12526" y="10344"/>
                  <a:pt x="12526" y="10443"/>
                </a:cubicBezTo>
              </a:path>
              <a:path w="6600" h="2383">
                <a:moveTo>
                  <a:pt x="11807" y="8781"/>
                </a:moveTo>
                <a:cubicBezTo>
                  <a:pt x="11819" y="8935"/>
                  <a:pt x="11794" y="8979"/>
                  <a:pt x="11906" y="9079"/>
                </a:cubicBezTo>
                <a:cubicBezTo>
                  <a:pt x="12040" y="8983"/>
                  <a:pt x="12090" y="8906"/>
                  <a:pt x="12105" y="8731"/>
                </a:cubicBezTo>
                <a:cubicBezTo>
                  <a:pt x="12105" y="8706"/>
                  <a:pt x="12105" y="8698"/>
                  <a:pt x="12105" y="8682"/>
                </a:cubicBezTo>
                <a:cubicBezTo>
                  <a:pt x="12234" y="8954"/>
                  <a:pt x="12324" y="9127"/>
                  <a:pt x="12129" y="9401"/>
                </a:cubicBezTo>
                <a:cubicBezTo>
                  <a:pt x="11927" y="9684"/>
                  <a:pt x="11818" y="9661"/>
                  <a:pt x="11559" y="9575"/>
                </a:cubicBezTo>
              </a:path>
              <a:path w="6600" h="2383">
                <a:moveTo>
                  <a:pt x="8781" y="10195"/>
                </a:moveTo>
                <a:cubicBezTo>
                  <a:pt x="8934" y="10099"/>
                  <a:pt x="9082" y="10016"/>
                  <a:pt x="9252" y="9947"/>
                </a:cubicBezTo>
                <a:cubicBezTo>
                  <a:pt x="9522" y="9838"/>
                  <a:pt x="9809" y="9752"/>
                  <a:pt x="10071" y="9624"/>
                </a:cubicBezTo>
                <a:cubicBezTo>
                  <a:pt x="10256" y="9534"/>
                  <a:pt x="10427" y="9409"/>
                  <a:pt x="10616" y="9327"/>
                </a:cubicBezTo>
                <a:cubicBezTo>
                  <a:pt x="10728" y="9278"/>
                  <a:pt x="10831" y="9239"/>
                  <a:pt x="10939" y="9178"/>
                </a:cubicBezTo>
                <a:cubicBezTo>
                  <a:pt x="10979" y="9158"/>
                  <a:pt x="10985" y="9149"/>
                  <a:pt x="11013" y="9153"/>
                </a:cubicBezTo>
              </a:path>
              <a:path w="6600" h="2383">
                <a:moveTo>
                  <a:pt x="8930" y="9103"/>
                </a:moveTo>
                <a:cubicBezTo>
                  <a:pt x="9074" y="9147"/>
                  <a:pt x="9189" y="9207"/>
                  <a:pt x="9327" y="9277"/>
                </a:cubicBezTo>
                <a:cubicBezTo>
                  <a:pt x="9516" y="9373"/>
                  <a:pt x="9686" y="9497"/>
                  <a:pt x="9872" y="9599"/>
                </a:cubicBezTo>
                <a:cubicBezTo>
                  <a:pt x="9997" y="9668"/>
                  <a:pt x="10116" y="9713"/>
                  <a:pt x="10244" y="9773"/>
                </a:cubicBezTo>
                <a:cubicBezTo>
                  <a:pt x="10369" y="9832"/>
                  <a:pt x="10495" y="9882"/>
                  <a:pt x="10616" y="9947"/>
                </a:cubicBezTo>
                <a:cubicBezTo>
                  <a:pt x="10755" y="10022"/>
                  <a:pt x="10894" y="10082"/>
                  <a:pt x="11038" y="10145"/>
                </a:cubicBezTo>
                <a:cubicBezTo>
                  <a:pt x="11092" y="10169"/>
                  <a:pt x="11075" y="10173"/>
                  <a:pt x="11088" y="1022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0880" y="2616120"/>
            <a:ext cx="1903320" cy="1170000"/>
          </a:xfrm>
          <a:custGeom>
            <a:avLst/>
            <a:gdLst/>
            <a:ahLst/>
            <a:rect l="l" t="t" r="r" b="b"/>
            <a:pathLst>
              <a:path w="5285" h="3250">
                <a:moveTo>
                  <a:pt x="15553" y="7293"/>
                </a:moveTo>
                <a:cubicBezTo>
                  <a:pt x="15705" y="7293"/>
                  <a:pt x="15850" y="7282"/>
                  <a:pt x="15999" y="7268"/>
                </a:cubicBezTo>
                <a:cubicBezTo>
                  <a:pt x="16253" y="7245"/>
                  <a:pt x="16524" y="7311"/>
                  <a:pt x="16768" y="7293"/>
                </a:cubicBezTo>
                <a:cubicBezTo>
                  <a:pt x="16850" y="7287"/>
                  <a:pt x="16929" y="7268"/>
                  <a:pt x="17016" y="7268"/>
                </a:cubicBezTo>
                <a:cubicBezTo>
                  <a:pt x="17272" y="7268"/>
                  <a:pt x="17545" y="7263"/>
                  <a:pt x="17785" y="7293"/>
                </a:cubicBezTo>
                <a:cubicBezTo>
                  <a:pt x="17841" y="7300"/>
                  <a:pt x="17902" y="7293"/>
                  <a:pt x="17959" y="7293"/>
                </a:cubicBezTo>
              </a:path>
              <a:path w="5285" h="3250">
                <a:moveTo>
                  <a:pt x="15503" y="8731"/>
                </a:moveTo>
                <a:cubicBezTo>
                  <a:pt x="15503" y="8931"/>
                  <a:pt x="15542" y="9126"/>
                  <a:pt x="15528" y="9327"/>
                </a:cubicBezTo>
                <a:cubicBezTo>
                  <a:pt x="15520" y="9360"/>
                  <a:pt x="15511" y="9393"/>
                  <a:pt x="15503" y="9426"/>
                </a:cubicBezTo>
              </a:path>
              <a:path w="5285" h="3250">
                <a:moveTo>
                  <a:pt x="15801" y="8657"/>
                </a:moveTo>
                <a:cubicBezTo>
                  <a:pt x="15861" y="8567"/>
                  <a:pt x="16106" y="8379"/>
                  <a:pt x="16222" y="8533"/>
                </a:cubicBezTo>
                <a:cubicBezTo>
                  <a:pt x="16325" y="8669"/>
                  <a:pt x="16118" y="8867"/>
                  <a:pt x="16024" y="8930"/>
                </a:cubicBezTo>
                <a:cubicBezTo>
                  <a:pt x="16150" y="8819"/>
                  <a:pt x="16363" y="8880"/>
                  <a:pt x="16346" y="9103"/>
                </a:cubicBezTo>
                <a:cubicBezTo>
                  <a:pt x="16333" y="9268"/>
                  <a:pt x="15858" y="9565"/>
                  <a:pt x="15825" y="9327"/>
                </a:cubicBezTo>
                <a:cubicBezTo>
                  <a:pt x="15850" y="9294"/>
                  <a:pt x="15875" y="9260"/>
                  <a:pt x="15900" y="9227"/>
                </a:cubicBezTo>
              </a:path>
              <a:path w="5285" h="3250">
                <a:moveTo>
                  <a:pt x="16619" y="9103"/>
                </a:moveTo>
                <a:cubicBezTo>
                  <a:pt x="16625" y="9181"/>
                  <a:pt x="16619" y="9371"/>
                  <a:pt x="16768" y="9327"/>
                </a:cubicBezTo>
                <a:cubicBezTo>
                  <a:pt x="16911" y="9285"/>
                  <a:pt x="16939" y="9196"/>
                  <a:pt x="16966" y="9079"/>
                </a:cubicBezTo>
                <a:cubicBezTo>
                  <a:pt x="17099" y="9267"/>
                  <a:pt x="17200" y="9484"/>
                  <a:pt x="17115" y="9723"/>
                </a:cubicBezTo>
                <a:cubicBezTo>
                  <a:pt x="16990" y="10075"/>
                  <a:pt x="16673" y="9990"/>
                  <a:pt x="16495" y="9823"/>
                </a:cubicBezTo>
              </a:path>
              <a:path w="5285" h="3250">
                <a:moveTo>
                  <a:pt x="17537" y="8806"/>
                </a:moveTo>
                <a:cubicBezTo>
                  <a:pt x="17683" y="8832"/>
                  <a:pt x="17833" y="8840"/>
                  <a:pt x="17983" y="8855"/>
                </a:cubicBezTo>
              </a:path>
              <a:path w="5285" h="3250">
                <a:moveTo>
                  <a:pt x="17686" y="9054"/>
                </a:moveTo>
                <a:cubicBezTo>
                  <a:pt x="17827" y="9073"/>
                  <a:pt x="17966" y="9093"/>
                  <a:pt x="18107" y="9103"/>
                </a:cubicBezTo>
              </a:path>
              <a:path w="5285" h="3250">
                <a:moveTo>
                  <a:pt x="18107" y="9103"/>
                </a:moveTo>
                <a:lnTo>
                  <a:pt x="18107" y="9103"/>
                </a:lnTo>
              </a:path>
              <a:path w="5285" h="3250">
                <a:moveTo>
                  <a:pt x="18728" y="8657"/>
                </a:moveTo>
                <a:cubicBezTo>
                  <a:pt x="18783" y="8619"/>
                  <a:pt x="18735" y="8804"/>
                  <a:pt x="18728" y="8855"/>
                </a:cubicBezTo>
                <a:cubicBezTo>
                  <a:pt x="18708" y="8995"/>
                  <a:pt x="18678" y="9110"/>
                  <a:pt x="18678" y="9252"/>
                </a:cubicBezTo>
                <a:cubicBezTo>
                  <a:pt x="18678" y="9354"/>
                  <a:pt x="18701" y="9393"/>
                  <a:pt x="18802" y="9451"/>
                </a:cubicBezTo>
                <a:cubicBezTo>
                  <a:pt x="18889" y="9501"/>
                  <a:pt x="19069" y="9475"/>
                  <a:pt x="19149" y="9426"/>
                </a:cubicBezTo>
                <a:cubicBezTo>
                  <a:pt x="19190" y="9401"/>
                  <a:pt x="19305" y="9268"/>
                  <a:pt x="19273" y="9203"/>
                </a:cubicBezTo>
                <a:cubicBezTo>
                  <a:pt x="19223" y="9101"/>
                  <a:pt x="19102" y="9111"/>
                  <a:pt x="19050" y="9178"/>
                </a:cubicBezTo>
                <a:cubicBezTo>
                  <a:pt x="18986" y="9261"/>
                  <a:pt x="18973" y="9318"/>
                  <a:pt x="19000" y="9401"/>
                </a:cubicBezTo>
                <a:cubicBezTo>
                  <a:pt x="19000" y="9409"/>
                  <a:pt x="19000" y="9418"/>
                  <a:pt x="19000" y="9426"/>
                </a:cubicBezTo>
              </a:path>
              <a:path w="5285" h="3250">
                <a:moveTo>
                  <a:pt x="19447" y="8657"/>
                </a:moveTo>
                <a:cubicBezTo>
                  <a:pt x="19608" y="8545"/>
                  <a:pt x="19659" y="8489"/>
                  <a:pt x="19844" y="8533"/>
                </a:cubicBezTo>
                <a:cubicBezTo>
                  <a:pt x="19865" y="8741"/>
                  <a:pt x="19861" y="8802"/>
                  <a:pt x="19670" y="8905"/>
                </a:cubicBezTo>
                <a:cubicBezTo>
                  <a:pt x="19732" y="8782"/>
                  <a:pt x="19921" y="8839"/>
                  <a:pt x="20017" y="8905"/>
                </a:cubicBezTo>
                <a:cubicBezTo>
                  <a:pt x="20189" y="9022"/>
                  <a:pt x="20068" y="9290"/>
                  <a:pt x="19893" y="9327"/>
                </a:cubicBezTo>
                <a:cubicBezTo>
                  <a:pt x="19786" y="9305"/>
                  <a:pt x="19762" y="9297"/>
                  <a:pt x="19695" y="9302"/>
                </a:cubicBezTo>
              </a:path>
              <a:path w="5285" h="3250">
                <a:moveTo>
                  <a:pt x="14808" y="9748"/>
                </a:moveTo>
                <a:cubicBezTo>
                  <a:pt x="14932" y="9660"/>
                  <a:pt x="14997" y="9651"/>
                  <a:pt x="15180" y="9649"/>
                </a:cubicBezTo>
                <a:cubicBezTo>
                  <a:pt x="15644" y="9643"/>
                  <a:pt x="16109" y="9659"/>
                  <a:pt x="16570" y="9624"/>
                </a:cubicBezTo>
                <a:cubicBezTo>
                  <a:pt x="16717" y="9613"/>
                  <a:pt x="16869" y="9624"/>
                  <a:pt x="17016" y="9624"/>
                </a:cubicBezTo>
              </a:path>
              <a:path w="5285" h="3250">
                <a:moveTo>
                  <a:pt x="15230" y="10071"/>
                </a:moveTo>
                <a:cubicBezTo>
                  <a:pt x="15230" y="10042"/>
                  <a:pt x="15273" y="10397"/>
                  <a:pt x="15280" y="10468"/>
                </a:cubicBezTo>
                <a:cubicBezTo>
                  <a:pt x="15280" y="10509"/>
                  <a:pt x="15280" y="10533"/>
                  <a:pt x="15280" y="10492"/>
                </a:cubicBezTo>
              </a:path>
              <a:path w="5285" h="3250">
                <a:moveTo>
                  <a:pt x="15602" y="9872"/>
                </a:moveTo>
                <a:cubicBezTo>
                  <a:pt x="15782" y="9857"/>
                  <a:pt x="16038" y="9816"/>
                  <a:pt x="15850" y="10071"/>
                </a:cubicBezTo>
                <a:cubicBezTo>
                  <a:pt x="15772" y="10149"/>
                  <a:pt x="15769" y="10182"/>
                  <a:pt x="15701" y="10170"/>
                </a:cubicBezTo>
                <a:cubicBezTo>
                  <a:pt x="15701" y="10162"/>
                  <a:pt x="15701" y="10153"/>
                  <a:pt x="15701" y="10145"/>
                </a:cubicBezTo>
                <a:cubicBezTo>
                  <a:pt x="15820" y="10125"/>
                  <a:pt x="16267" y="10109"/>
                  <a:pt x="16049" y="10368"/>
                </a:cubicBezTo>
                <a:cubicBezTo>
                  <a:pt x="15908" y="10536"/>
                  <a:pt x="15748" y="10480"/>
                  <a:pt x="15577" y="10443"/>
                </a:cubicBezTo>
              </a:path>
              <a:path w="5285" h="3250">
                <a:moveTo>
                  <a:pt x="18554" y="9475"/>
                </a:moveTo>
                <a:cubicBezTo>
                  <a:pt x="19028" y="9435"/>
                  <a:pt x="19500" y="9390"/>
                  <a:pt x="19968" y="9302"/>
                </a:cubicBezTo>
                <a:cubicBezTo>
                  <a:pt x="20170" y="9264"/>
                  <a:pt x="20026" y="9283"/>
                  <a:pt x="20092" y="9302"/>
                </a:cubicBezTo>
              </a:path>
              <a:path w="5285" h="3250">
                <a:moveTo>
                  <a:pt x="18678" y="9798"/>
                </a:moveTo>
                <a:cubicBezTo>
                  <a:pt x="18721" y="9979"/>
                  <a:pt x="18730" y="10161"/>
                  <a:pt x="18752" y="10344"/>
                </a:cubicBezTo>
                <a:cubicBezTo>
                  <a:pt x="18752" y="10352"/>
                  <a:pt x="18752" y="10360"/>
                  <a:pt x="18752" y="10368"/>
                </a:cubicBezTo>
              </a:path>
              <a:path w="5285" h="3250">
                <a:moveTo>
                  <a:pt x="19199" y="9699"/>
                </a:moveTo>
                <a:cubicBezTo>
                  <a:pt x="19281" y="9683"/>
                  <a:pt x="19669" y="9577"/>
                  <a:pt x="19496" y="9823"/>
                </a:cubicBezTo>
                <a:cubicBezTo>
                  <a:pt x="19455" y="9856"/>
                  <a:pt x="19413" y="9889"/>
                  <a:pt x="19372" y="9922"/>
                </a:cubicBezTo>
                <a:cubicBezTo>
                  <a:pt x="19364" y="9930"/>
                  <a:pt x="19356" y="9939"/>
                  <a:pt x="19348" y="9947"/>
                </a:cubicBezTo>
                <a:cubicBezTo>
                  <a:pt x="19467" y="9930"/>
                  <a:pt x="19709" y="9831"/>
                  <a:pt x="19745" y="10021"/>
                </a:cubicBezTo>
                <a:cubicBezTo>
                  <a:pt x="19796" y="10292"/>
                  <a:pt x="19345" y="10265"/>
                  <a:pt x="19224" y="1024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19160" y="5491080"/>
            <a:ext cx="509760" cy="760320"/>
          </a:xfrm>
          <a:custGeom>
            <a:avLst/>
            <a:gdLst/>
            <a:ahLst/>
            <a:rect l="l" t="t" r="r" b="b"/>
            <a:pathLst>
              <a:path w="1415" h="2109">
                <a:moveTo>
                  <a:pt x="5755" y="15677"/>
                </a:moveTo>
                <a:cubicBezTo>
                  <a:pt x="5755" y="15810"/>
                  <a:pt x="5752" y="16204"/>
                  <a:pt x="5730" y="16073"/>
                </a:cubicBezTo>
                <a:cubicBezTo>
                  <a:pt x="5730" y="16048"/>
                  <a:pt x="5730" y="16024"/>
                  <a:pt x="5730" y="15999"/>
                </a:cubicBezTo>
              </a:path>
              <a:path w="1415" h="2109">
                <a:moveTo>
                  <a:pt x="5631" y="15255"/>
                </a:moveTo>
                <a:cubicBezTo>
                  <a:pt x="5656" y="15271"/>
                  <a:pt x="5680" y="15288"/>
                  <a:pt x="5705" y="15304"/>
                </a:cubicBezTo>
              </a:path>
              <a:path w="1415" h="2109">
                <a:moveTo>
                  <a:pt x="5705" y="15304"/>
                </a:moveTo>
                <a:lnTo>
                  <a:pt x="5705" y="15304"/>
                </a:lnTo>
              </a:path>
              <a:path w="1415" h="2109">
                <a:moveTo>
                  <a:pt x="6102" y="15900"/>
                </a:moveTo>
                <a:cubicBezTo>
                  <a:pt x="6057" y="16019"/>
                  <a:pt x="6079" y="15795"/>
                  <a:pt x="6127" y="15677"/>
                </a:cubicBezTo>
                <a:cubicBezTo>
                  <a:pt x="6242" y="15393"/>
                  <a:pt x="6488" y="15589"/>
                  <a:pt x="6548" y="15801"/>
                </a:cubicBezTo>
                <a:cubicBezTo>
                  <a:pt x="6548" y="15946"/>
                  <a:pt x="6563" y="15981"/>
                  <a:pt x="6499" y="16049"/>
                </a:cubicBezTo>
              </a:path>
              <a:path w="1415" h="2109">
                <a:moveTo>
                  <a:pt x="5333" y="16247"/>
                </a:moveTo>
                <a:cubicBezTo>
                  <a:pt x="5773" y="16214"/>
                  <a:pt x="6210" y="16166"/>
                  <a:pt x="6648" y="16247"/>
                </a:cubicBezTo>
                <a:cubicBezTo>
                  <a:pt x="6664" y="16255"/>
                  <a:pt x="6681" y="16264"/>
                  <a:pt x="6697" y="16272"/>
                </a:cubicBezTo>
              </a:path>
              <a:path w="1415" h="2109">
                <a:moveTo>
                  <a:pt x="5854" y="16842"/>
                </a:moveTo>
                <a:cubicBezTo>
                  <a:pt x="5829" y="17040"/>
                  <a:pt x="5821" y="17106"/>
                  <a:pt x="5829" y="17239"/>
                </a:cubicBezTo>
                <a:cubicBezTo>
                  <a:pt x="5751" y="17598"/>
                  <a:pt x="5895" y="16982"/>
                  <a:pt x="5904" y="16966"/>
                </a:cubicBezTo>
                <a:cubicBezTo>
                  <a:pt x="6084" y="16644"/>
                  <a:pt x="6247" y="16889"/>
                  <a:pt x="6300" y="17115"/>
                </a:cubicBezTo>
                <a:cubicBezTo>
                  <a:pt x="6300" y="17132"/>
                  <a:pt x="6300" y="17148"/>
                  <a:pt x="6300" y="17165"/>
                </a:cubicBezTo>
                <a:cubicBezTo>
                  <a:pt x="6300" y="17050"/>
                  <a:pt x="6306" y="16785"/>
                  <a:pt x="6449" y="16743"/>
                </a:cubicBezTo>
                <a:cubicBezTo>
                  <a:pt x="6655" y="16682"/>
                  <a:pt x="6719" y="17088"/>
                  <a:pt x="6747" y="17214"/>
                </a:cubicBezTo>
                <a:cubicBezTo>
                  <a:pt x="6747" y="17222"/>
                  <a:pt x="6747" y="17231"/>
                  <a:pt x="6747" y="1723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0920" y="5045040"/>
            <a:ext cx="1054080" cy="1206360"/>
          </a:xfrm>
          <a:custGeom>
            <a:avLst/>
            <a:gdLst/>
            <a:ahLst/>
            <a:rect l="l" t="t" r="r" b="b"/>
            <a:pathLst>
              <a:path w="2928" h="3349">
                <a:moveTo>
                  <a:pt x="9971" y="15751"/>
                </a:moveTo>
                <a:cubicBezTo>
                  <a:pt x="10125" y="15718"/>
                  <a:pt x="10369" y="15609"/>
                  <a:pt x="10368" y="15751"/>
                </a:cubicBezTo>
              </a:path>
              <a:path w="2928" h="3349">
                <a:moveTo>
                  <a:pt x="10096" y="15949"/>
                </a:moveTo>
                <a:cubicBezTo>
                  <a:pt x="10216" y="15934"/>
                  <a:pt x="10322" y="15925"/>
                  <a:pt x="10443" y="15925"/>
                </a:cubicBezTo>
              </a:path>
              <a:path w="2928" h="3349">
                <a:moveTo>
                  <a:pt x="10964" y="15875"/>
                </a:moveTo>
                <a:cubicBezTo>
                  <a:pt x="11470" y="15809"/>
                  <a:pt x="11966" y="15774"/>
                  <a:pt x="12477" y="15825"/>
                </a:cubicBezTo>
                <a:cubicBezTo>
                  <a:pt x="12673" y="15844"/>
                  <a:pt x="12567" y="15845"/>
                  <a:pt x="12626" y="15875"/>
                </a:cubicBezTo>
              </a:path>
              <a:path w="2928" h="3349">
                <a:moveTo>
                  <a:pt x="10666" y="14039"/>
                </a:moveTo>
                <a:cubicBezTo>
                  <a:pt x="10822" y="14039"/>
                  <a:pt x="10984" y="14011"/>
                  <a:pt x="11137" y="14015"/>
                </a:cubicBezTo>
                <a:cubicBezTo>
                  <a:pt x="11402" y="14021"/>
                  <a:pt x="11664" y="14015"/>
                  <a:pt x="11931" y="14015"/>
                </a:cubicBezTo>
                <a:cubicBezTo>
                  <a:pt x="11939" y="14015"/>
                  <a:pt x="12023" y="14015"/>
                  <a:pt x="11956" y="14015"/>
                </a:cubicBezTo>
              </a:path>
              <a:path w="2928" h="3349">
                <a:moveTo>
                  <a:pt x="11261" y="14932"/>
                </a:moveTo>
                <a:cubicBezTo>
                  <a:pt x="11389" y="14871"/>
                  <a:pt x="11564" y="14898"/>
                  <a:pt x="11708" y="14883"/>
                </a:cubicBezTo>
                <a:cubicBezTo>
                  <a:pt x="11815" y="14865"/>
                  <a:pt x="11823" y="14857"/>
                  <a:pt x="11881" y="14858"/>
                </a:cubicBezTo>
                <a:cubicBezTo>
                  <a:pt x="11765" y="15093"/>
                  <a:pt x="11617" y="15328"/>
                  <a:pt x="11534" y="15577"/>
                </a:cubicBezTo>
                <a:cubicBezTo>
                  <a:pt x="11534" y="15602"/>
                  <a:pt x="11534" y="15610"/>
                  <a:pt x="11534" y="15627"/>
                </a:cubicBezTo>
              </a:path>
              <a:path w="2928" h="3349">
                <a:moveTo>
                  <a:pt x="11881" y="16768"/>
                </a:moveTo>
                <a:cubicBezTo>
                  <a:pt x="11941" y="16668"/>
                  <a:pt x="11954" y="16443"/>
                  <a:pt x="11782" y="16396"/>
                </a:cubicBezTo>
                <a:cubicBezTo>
                  <a:pt x="11511" y="16323"/>
                  <a:pt x="11473" y="16662"/>
                  <a:pt x="11534" y="16793"/>
                </a:cubicBezTo>
                <a:cubicBezTo>
                  <a:pt x="11783" y="16750"/>
                  <a:pt x="11731" y="16716"/>
                  <a:pt x="11857" y="16545"/>
                </a:cubicBezTo>
                <a:cubicBezTo>
                  <a:pt x="11865" y="16545"/>
                  <a:pt x="11873" y="16545"/>
                  <a:pt x="11881" y="16545"/>
                </a:cubicBezTo>
                <a:cubicBezTo>
                  <a:pt x="11980" y="16742"/>
                  <a:pt x="12218" y="17045"/>
                  <a:pt x="11981" y="17239"/>
                </a:cubicBezTo>
                <a:cubicBezTo>
                  <a:pt x="11767" y="17414"/>
                  <a:pt x="11557" y="17350"/>
                  <a:pt x="11336" y="17289"/>
                </a:cubicBezTo>
              </a:path>
              <a:path w="2928" h="3349">
                <a:moveTo>
                  <a:pt x="9699" y="15701"/>
                </a:moveTo>
                <a:cubicBezTo>
                  <a:pt x="9818" y="15732"/>
                  <a:pt x="10112" y="15824"/>
                  <a:pt x="10269" y="15900"/>
                </a:cubicBezTo>
                <a:cubicBezTo>
                  <a:pt x="10529" y="16026"/>
                  <a:pt x="10779" y="16160"/>
                  <a:pt x="11063" y="16222"/>
                </a:cubicBezTo>
                <a:cubicBezTo>
                  <a:pt x="11071" y="16222"/>
                  <a:pt x="11080" y="16222"/>
                  <a:pt x="11088" y="1622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11880" y="5303880"/>
            <a:ext cx="2232000" cy="1278000"/>
          </a:xfrm>
          <a:custGeom>
            <a:avLst/>
            <a:gdLst/>
            <a:ahLst/>
            <a:rect l="l" t="t" r="r" b="b"/>
            <a:pathLst>
              <a:path w="6202" h="3548">
                <a:moveTo>
                  <a:pt x="15602" y="14833"/>
                </a:moveTo>
                <a:cubicBezTo>
                  <a:pt x="15620" y="14797"/>
                  <a:pt x="15564" y="14820"/>
                  <a:pt x="15577" y="14858"/>
                </a:cubicBezTo>
                <a:cubicBezTo>
                  <a:pt x="15602" y="14858"/>
                  <a:pt x="15610" y="14858"/>
                  <a:pt x="15577" y="14858"/>
                </a:cubicBezTo>
                <a:cubicBezTo>
                  <a:pt x="15577" y="14960"/>
                  <a:pt x="15657" y="14762"/>
                  <a:pt x="15751" y="14734"/>
                </a:cubicBezTo>
                <a:cubicBezTo>
                  <a:pt x="16197" y="14601"/>
                  <a:pt x="15783" y="15377"/>
                  <a:pt x="15677" y="15478"/>
                </a:cubicBezTo>
                <a:cubicBezTo>
                  <a:pt x="15509" y="15583"/>
                  <a:pt x="15480" y="15624"/>
                  <a:pt x="15354" y="15602"/>
                </a:cubicBezTo>
                <a:cubicBezTo>
                  <a:pt x="15337" y="15368"/>
                  <a:pt x="15491" y="15258"/>
                  <a:pt x="15726" y="15404"/>
                </a:cubicBezTo>
                <a:cubicBezTo>
                  <a:pt x="15855" y="15484"/>
                  <a:pt x="15797" y="15558"/>
                  <a:pt x="15900" y="15602"/>
                </a:cubicBezTo>
              </a:path>
              <a:path w="6202" h="3548">
                <a:moveTo>
                  <a:pt x="16495" y="15205"/>
                </a:moveTo>
                <a:cubicBezTo>
                  <a:pt x="16393" y="15249"/>
                  <a:pt x="16243" y="15392"/>
                  <a:pt x="16272" y="15528"/>
                </a:cubicBezTo>
                <a:cubicBezTo>
                  <a:pt x="16292" y="15620"/>
                  <a:pt x="16493" y="15360"/>
                  <a:pt x="16495" y="15354"/>
                </a:cubicBezTo>
                <a:cubicBezTo>
                  <a:pt x="16573" y="15570"/>
                  <a:pt x="16670" y="15822"/>
                  <a:pt x="16495" y="16024"/>
                </a:cubicBezTo>
                <a:cubicBezTo>
                  <a:pt x="16261" y="16293"/>
                  <a:pt x="16045" y="16132"/>
                  <a:pt x="16098" y="15875"/>
                </a:cubicBezTo>
              </a:path>
              <a:path w="6202" h="3548">
                <a:moveTo>
                  <a:pt x="17115" y="15056"/>
                </a:moveTo>
                <a:cubicBezTo>
                  <a:pt x="17246" y="15080"/>
                  <a:pt x="17311" y="15065"/>
                  <a:pt x="17363" y="15156"/>
                </a:cubicBezTo>
              </a:path>
              <a:path w="6202" h="3548">
                <a:moveTo>
                  <a:pt x="17066" y="15354"/>
                </a:moveTo>
                <a:cubicBezTo>
                  <a:pt x="17175" y="15368"/>
                  <a:pt x="17254" y="15379"/>
                  <a:pt x="17363" y="15379"/>
                </a:cubicBezTo>
              </a:path>
              <a:path w="6202" h="3548">
                <a:moveTo>
                  <a:pt x="18058" y="14858"/>
                </a:moveTo>
                <a:cubicBezTo>
                  <a:pt x="18030" y="14915"/>
                  <a:pt x="18019" y="14938"/>
                  <a:pt x="18008" y="14982"/>
                </a:cubicBezTo>
                <a:cubicBezTo>
                  <a:pt x="18008" y="15028"/>
                  <a:pt x="18001" y="14850"/>
                  <a:pt x="18083" y="14833"/>
                </a:cubicBezTo>
                <a:cubicBezTo>
                  <a:pt x="18441" y="14760"/>
                  <a:pt x="18204" y="15409"/>
                  <a:pt x="18008" y="15503"/>
                </a:cubicBezTo>
                <a:cubicBezTo>
                  <a:pt x="17846" y="15523"/>
                  <a:pt x="17800" y="15562"/>
                  <a:pt x="17760" y="15453"/>
                </a:cubicBezTo>
                <a:cubicBezTo>
                  <a:pt x="18024" y="15302"/>
                  <a:pt x="18112" y="15374"/>
                  <a:pt x="18380" y="15503"/>
                </a:cubicBezTo>
                <a:cubicBezTo>
                  <a:pt x="18388" y="15503"/>
                  <a:pt x="18397" y="15503"/>
                  <a:pt x="18405" y="15503"/>
                </a:cubicBezTo>
              </a:path>
              <a:path w="6202" h="3548">
                <a:moveTo>
                  <a:pt x="18752" y="14784"/>
                </a:moveTo>
                <a:cubicBezTo>
                  <a:pt x="18790" y="15003"/>
                  <a:pt x="18896" y="15322"/>
                  <a:pt x="18852" y="15528"/>
                </a:cubicBezTo>
              </a:path>
              <a:path w="6202" h="3548">
                <a:moveTo>
                  <a:pt x="15032" y="15949"/>
                </a:moveTo>
                <a:cubicBezTo>
                  <a:pt x="15447" y="15949"/>
                  <a:pt x="15858" y="15942"/>
                  <a:pt x="16272" y="15949"/>
                </a:cubicBezTo>
                <a:cubicBezTo>
                  <a:pt x="16598" y="15955"/>
                  <a:pt x="16412" y="15941"/>
                  <a:pt x="16545" y="15974"/>
                </a:cubicBezTo>
              </a:path>
              <a:path w="6202" h="3548">
                <a:moveTo>
                  <a:pt x="17735" y="15801"/>
                </a:moveTo>
                <a:cubicBezTo>
                  <a:pt x="18103" y="15778"/>
                  <a:pt x="18465" y="15753"/>
                  <a:pt x="18827" y="15677"/>
                </a:cubicBezTo>
                <a:cubicBezTo>
                  <a:pt x="19128" y="15614"/>
                  <a:pt x="19204" y="15461"/>
                  <a:pt x="19224" y="15652"/>
                </a:cubicBezTo>
              </a:path>
              <a:path w="6202" h="3548">
                <a:moveTo>
                  <a:pt x="15801" y="16396"/>
                </a:moveTo>
                <a:cubicBezTo>
                  <a:pt x="15789" y="16419"/>
                  <a:pt x="15951" y="16318"/>
                  <a:pt x="16049" y="16297"/>
                </a:cubicBezTo>
                <a:cubicBezTo>
                  <a:pt x="16090" y="16607"/>
                  <a:pt x="16082" y="16925"/>
                  <a:pt x="15677" y="16966"/>
                </a:cubicBezTo>
                <a:cubicBezTo>
                  <a:pt x="15619" y="16950"/>
                  <a:pt x="15561" y="16933"/>
                  <a:pt x="15503" y="16917"/>
                </a:cubicBezTo>
                <a:cubicBezTo>
                  <a:pt x="15580" y="16674"/>
                  <a:pt x="15738" y="16612"/>
                  <a:pt x="15974" y="16793"/>
                </a:cubicBezTo>
                <a:cubicBezTo>
                  <a:pt x="16014" y="16852"/>
                  <a:pt x="16043" y="16864"/>
                  <a:pt x="15999" y="16892"/>
                </a:cubicBezTo>
              </a:path>
              <a:path w="6202" h="3548">
                <a:moveTo>
                  <a:pt x="15528" y="14833"/>
                </a:moveTo>
                <a:cubicBezTo>
                  <a:pt x="15622" y="15153"/>
                  <a:pt x="15614" y="15531"/>
                  <a:pt x="15627" y="15900"/>
                </a:cubicBezTo>
                <a:cubicBezTo>
                  <a:pt x="15640" y="16252"/>
                  <a:pt x="15710" y="16574"/>
                  <a:pt x="15751" y="16917"/>
                </a:cubicBezTo>
              </a:path>
              <a:path w="6202" h="3548">
                <a:moveTo>
                  <a:pt x="16371" y="17512"/>
                </a:moveTo>
                <a:cubicBezTo>
                  <a:pt x="16275" y="17320"/>
                  <a:pt x="16130" y="17525"/>
                  <a:pt x="16049" y="17661"/>
                </a:cubicBezTo>
                <a:cubicBezTo>
                  <a:pt x="16041" y="17694"/>
                  <a:pt x="16032" y="17727"/>
                  <a:pt x="16024" y="17760"/>
                </a:cubicBezTo>
                <a:cubicBezTo>
                  <a:pt x="16209" y="17772"/>
                  <a:pt x="16239" y="17728"/>
                  <a:pt x="16346" y="17562"/>
                </a:cubicBezTo>
                <a:cubicBezTo>
                  <a:pt x="16400" y="17703"/>
                  <a:pt x="16587" y="18007"/>
                  <a:pt x="16470" y="18157"/>
                </a:cubicBezTo>
                <a:cubicBezTo>
                  <a:pt x="16273" y="18410"/>
                  <a:pt x="16006" y="18293"/>
                  <a:pt x="15974" y="18083"/>
                </a:cubicBezTo>
              </a:path>
              <a:path w="6202" h="3548">
                <a:moveTo>
                  <a:pt x="17115" y="17462"/>
                </a:moveTo>
                <a:cubicBezTo>
                  <a:pt x="17233" y="17436"/>
                  <a:pt x="17342" y="17420"/>
                  <a:pt x="17462" y="17413"/>
                </a:cubicBezTo>
              </a:path>
              <a:path w="6202" h="3548">
                <a:moveTo>
                  <a:pt x="17165" y="17611"/>
                </a:moveTo>
                <a:cubicBezTo>
                  <a:pt x="17348" y="17566"/>
                  <a:pt x="17399" y="17554"/>
                  <a:pt x="17512" y="17512"/>
                </a:cubicBezTo>
              </a:path>
              <a:path w="6202" h="3548">
                <a:moveTo>
                  <a:pt x="17512" y="17512"/>
                </a:moveTo>
                <a:lnTo>
                  <a:pt x="17512" y="17512"/>
                </a:lnTo>
              </a:path>
              <a:path w="6202" h="3548">
                <a:moveTo>
                  <a:pt x="18479" y="15974"/>
                </a:moveTo>
                <a:cubicBezTo>
                  <a:pt x="18587" y="15944"/>
                  <a:pt x="18768" y="15817"/>
                  <a:pt x="18852" y="15974"/>
                </a:cubicBezTo>
                <a:cubicBezTo>
                  <a:pt x="18973" y="16202"/>
                  <a:pt x="18707" y="16462"/>
                  <a:pt x="18479" y="16371"/>
                </a:cubicBezTo>
                <a:cubicBezTo>
                  <a:pt x="18471" y="16346"/>
                  <a:pt x="18463" y="16322"/>
                  <a:pt x="18455" y="16297"/>
                </a:cubicBezTo>
                <a:cubicBezTo>
                  <a:pt x="18592" y="16133"/>
                  <a:pt x="18699" y="16162"/>
                  <a:pt x="18901" y="16272"/>
                </a:cubicBezTo>
                <a:cubicBezTo>
                  <a:pt x="18924" y="16295"/>
                  <a:pt x="18928" y="16303"/>
                  <a:pt x="18951" y="16297"/>
                </a:cubicBezTo>
              </a:path>
              <a:path w="6202" h="3548">
                <a:moveTo>
                  <a:pt x="18132" y="17264"/>
                </a:moveTo>
                <a:cubicBezTo>
                  <a:pt x="18201" y="17491"/>
                  <a:pt x="18122" y="17657"/>
                  <a:pt x="18132" y="17884"/>
                </a:cubicBezTo>
                <a:cubicBezTo>
                  <a:pt x="18140" y="17884"/>
                  <a:pt x="18149" y="17884"/>
                  <a:pt x="18157" y="17884"/>
                </a:cubicBezTo>
              </a:path>
              <a:path w="6202" h="3548">
                <a:moveTo>
                  <a:pt x="18728" y="17264"/>
                </a:moveTo>
                <a:cubicBezTo>
                  <a:pt x="18559" y="17368"/>
                  <a:pt x="18441" y="17539"/>
                  <a:pt x="18479" y="17760"/>
                </a:cubicBezTo>
                <a:cubicBezTo>
                  <a:pt x="18496" y="17785"/>
                  <a:pt x="18512" y="17810"/>
                  <a:pt x="18529" y="17835"/>
                </a:cubicBezTo>
                <a:cubicBezTo>
                  <a:pt x="18757" y="17802"/>
                  <a:pt x="18936" y="17724"/>
                  <a:pt x="18876" y="17438"/>
                </a:cubicBezTo>
                <a:cubicBezTo>
                  <a:pt x="18836" y="17249"/>
                  <a:pt x="18747" y="17254"/>
                  <a:pt x="18604" y="17264"/>
                </a:cubicBezTo>
              </a:path>
              <a:path w="6202" h="3548">
                <a:moveTo>
                  <a:pt x="19273" y="17711"/>
                </a:moveTo>
                <a:cubicBezTo>
                  <a:pt x="19282" y="17775"/>
                  <a:pt x="19268" y="17788"/>
                  <a:pt x="19323" y="17760"/>
                </a:cubicBezTo>
              </a:path>
              <a:path w="6202" h="3548">
                <a:moveTo>
                  <a:pt x="19819" y="17016"/>
                </a:moveTo>
                <a:cubicBezTo>
                  <a:pt x="19668" y="17054"/>
                  <a:pt x="19683" y="17019"/>
                  <a:pt x="19621" y="17115"/>
                </a:cubicBezTo>
                <a:cubicBezTo>
                  <a:pt x="19557" y="17220"/>
                  <a:pt x="19539" y="17241"/>
                  <a:pt x="19521" y="17314"/>
                </a:cubicBezTo>
                <a:cubicBezTo>
                  <a:pt x="19549" y="17395"/>
                  <a:pt x="19681" y="17334"/>
                  <a:pt x="19745" y="17338"/>
                </a:cubicBezTo>
                <a:cubicBezTo>
                  <a:pt x="19831" y="17343"/>
                  <a:pt x="20280" y="17448"/>
                  <a:pt x="20092" y="17636"/>
                </a:cubicBezTo>
                <a:cubicBezTo>
                  <a:pt x="19986" y="17742"/>
                  <a:pt x="19793" y="17696"/>
                  <a:pt x="19670" y="17686"/>
                </a:cubicBezTo>
              </a:path>
              <a:path w="6202" h="3548">
                <a:moveTo>
                  <a:pt x="20414" y="17264"/>
                </a:moveTo>
                <a:cubicBezTo>
                  <a:pt x="20428" y="17388"/>
                  <a:pt x="20453" y="17512"/>
                  <a:pt x="20464" y="17636"/>
                </a:cubicBezTo>
                <a:cubicBezTo>
                  <a:pt x="20438" y="17481"/>
                  <a:pt x="20462" y="17426"/>
                  <a:pt x="20538" y="17289"/>
                </a:cubicBezTo>
                <a:cubicBezTo>
                  <a:pt x="20760" y="17262"/>
                  <a:pt x="20807" y="17384"/>
                  <a:pt x="20886" y="17611"/>
                </a:cubicBezTo>
                <a:cubicBezTo>
                  <a:pt x="20886" y="17619"/>
                  <a:pt x="20886" y="17628"/>
                  <a:pt x="20886" y="17636"/>
                </a:cubicBezTo>
                <a:cubicBezTo>
                  <a:pt x="20855" y="17515"/>
                  <a:pt x="20843" y="17440"/>
                  <a:pt x="20935" y="17314"/>
                </a:cubicBezTo>
                <a:cubicBezTo>
                  <a:pt x="20960" y="17297"/>
                  <a:pt x="20985" y="17281"/>
                  <a:pt x="21010" y="17264"/>
                </a:cubicBezTo>
                <a:cubicBezTo>
                  <a:pt x="21114" y="17353"/>
                  <a:pt x="21303" y="17489"/>
                  <a:pt x="21233" y="17661"/>
                </a:cubicBezTo>
                <a:cubicBezTo>
                  <a:pt x="21216" y="17678"/>
                  <a:pt x="21200" y="17694"/>
                  <a:pt x="21183" y="1771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43800" y="3963960"/>
            <a:ext cx="465120" cy="322200"/>
          </a:xfrm>
          <a:custGeom>
            <a:avLst/>
            <a:gdLst/>
            <a:ahLst/>
            <a:rect l="l" t="t" r="r" b="b"/>
            <a:pathLst>
              <a:path w="1291" h="894">
                <a:moveTo>
                  <a:pt x="18529" y="11187"/>
                </a:moveTo>
                <a:cubicBezTo>
                  <a:pt x="18505" y="11330"/>
                  <a:pt x="18473" y="11468"/>
                  <a:pt x="18455" y="11609"/>
                </a:cubicBezTo>
                <a:cubicBezTo>
                  <a:pt x="18589" y="11609"/>
                  <a:pt x="18718" y="11587"/>
                  <a:pt x="18852" y="11584"/>
                </a:cubicBezTo>
                <a:cubicBezTo>
                  <a:pt x="18971" y="11581"/>
                  <a:pt x="18926" y="11569"/>
                  <a:pt x="18901" y="11435"/>
                </a:cubicBezTo>
              </a:path>
              <a:path w="1291" h="894">
                <a:moveTo>
                  <a:pt x="18802" y="11013"/>
                </a:moveTo>
                <a:cubicBezTo>
                  <a:pt x="18841" y="11285"/>
                  <a:pt x="18896" y="11555"/>
                  <a:pt x="18876" y="11832"/>
                </a:cubicBezTo>
                <a:cubicBezTo>
                  <a:pt x="18868" y="11857"/>
                  <a:pt x="18860" y="11881"/>
                  <a:pt x="18852" y="11906"/>
                </a:cubicBezTo>
              </a:path>
              <a:path w="1291" h="894">
                <a:moveTo>
                  <a:pt x="19174" y="11733"/>
                </a:moveTo>
                <a:cubicBezTo>
                  <a:pt x="19182" y="11733"/>
                  <a:pt x="19191" y="11733"/>
                  <a:pt x="19199" y="11733"/>
                </a:cubicBezTo>
              </a:path>
              <a:path w="1291" h="894">
                <a:moveTo>
                  <a:pt x="19596" y="11038"/>
                </a:moveTo>
                <a:cubicBezTo>
                  <a:pt x="19403" y="11077"/>
                  <a:pt x="19347" y="11171"/>
                  <a:pt x="19273" y="11336"/>
                </a:cubicBezTo>
                <a:cubicBezTo>
                  <a:pt x="19432" y="11469"/>
                  <a:pt x="19675" y="11565"/>
                  <a:pt x="19745" y="11733"/>
                </a:cubicBezTo>
                <a:cubicBezTo>
                  <a:pt x="19497" y="11831"/>
                  <a:pt x="19435" y="11797"/>
                  <a:pt x="19571" y="11509"/>
                </a:cubicBezTo>
                <a:cubicBezTo>
                  <a:pt x="19607" y="11432"/>
                  <a:pt x="19876" y="11074"/>
                  <a:pt x="19670" y="11038"/>
                </a:cubicBezTo>
                <a:cubicBezTo>
                  <a:pt x="19626" y="11038"/>
                  <a:pt x="19612" y="11035"/>
                  <a:pt x="19596" y="11063"/>
                </a:cubicBezTo>
              </a:path>
              <a:path w="1291" h="894">
                <a:moveTo>
                  <a:pt x="19248" y="11733"/>
                </a:moveTo>
                <a:cubicBezTo>
                  <a:pt x="19248" y="11748"/>
                  <a:pt x="19248" y="11899"/>
                  <a:pt x="19248" y="11832"/>
                </a:cubicBezTo>
                <a:cubicBezTo>
                  <a:pt x="19248" y="11807"/>
                  <a:pt x="19248" y="11799"/>
                  <a:pt x="19224" y="1180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42120" y="4010040"/>
            <a:ext cx="312840" cy="276120"/>
          </a:xfrm>
          <a:custGeom>
            <a:avLst/>
            <a:gdLst/>
            <a:ahLst/>
            <a:rect l="l" t="t" r="r" b="b"/>
            <a:pathLst>
              <a:path w="869" h="770">
                <a:moveTo>
                  <a:pt x="20315" y="11460"/>
                </a:moveTo>
                <a:cubicBezTo>
                  <a:pt x="20360" y="11549"/>
                  <a:pt x="20367" y="11538"/>
                  <a:pt x="20340" y="11485"/>
                </a:cubicBezTo>
                <a:cubicBezTo>
                  <a:pt x="20257" y="11336"/>
                  <a:pt x="20189" y="11442"/>
                  <a:pt x="20166" y="11609"/>
                </a:cubicBezTo>
                <a:cubicBezTo>
                  <a:pt x="20121" y="11929"/>
                  <a:pt x="20337" y="11850"/>
                  <a:pt x="20538" y="11782"/>
                </a:cubicBezTo>
              </a:path>
              <a:path w="869" h="770">
                <a:moveTo>
                  <a:pt x="20687" y="11361"/>
                </a:moveTo>
                <a:cubicBezTo>
                  <a:pt x="20687" y="11336"/>
                  <a:pt x="20687" y="11328"/>
                  <a:pt x="20712" y="11336"/>
                </a:cubicBezTo>
              </a:path>
              <a:path w="869" h="770">
                <a:moveTo>
                  <a:pt x="20166" y="11485"/>
                </a:moveTo>
                <a:cubicBezTo>
                  <a:pt x="20166" y="11473"/>
                  <a:pt x="20246" y="11786"/>
                  <a:pt x="20265" y="11857"/>
                </a:cubicBezTo>
                <a:cubicBezTo>
                  <a:pt x="20265" y="11873"/>
                  <a:pt x="20265" y="11890"/>
                  <a:pt x="20265" y="11906"/>
                </a:cubicBezTo>
                <a:cubicBezTo>
                  <a:pt x="20233" y="11827"/>
                  <a:pt x="20026" y="11503"/>
                  <a:pt x="20117" y="11410"/>
                </a:cubicBezTo>
                <a:cubicBezTo>
                  <a:pt x="20212" y="11312"/>
                  <a:pt x="20199" y="11671"/>
                  <a:pt x="20216" y="11807"/>
                </a:cubicBezTo>
              </a:path>
              <a:path w="869" h="770">
                <a:moveTo>
                  <a:pt x="20191" y="11137"/>
                </a:moveTo>
                <a:cubicBezTo>
                  <a:pt x="20199" y="11137"/>
                  <a:pt x="20208" y="11137"/>
                  <a:pt x="20216" y="11137"/>
                </a:cubicBezTo>
              </a:path>
              <a:path w="869" h="770">
                <a:moveTo>
                  <a:pt x="20513" y="11485"/>
                </a:moveTo>
                <a:cubicBezTo>
                  <a:pt x="20532" y="11595"/>
                  <a:pt x="20577" y="11695"/>
                  <a:pt x="20588" y="11807"/>
                </a:cubicBezTo>
                <a:cubicBezTo>
                  <a:pt x="20588" y="11815"/>
                  <a:pt x="20588" y="11824"/>
                  <a:pt x="20588" y="11832"/>
                </a:cubicBezTo>
                <a:cubicBezTo>
                  <a:pt x="20561" y="11697"/>
                  <a:pt x="20451" y="11616"/>
                  <a:pt x="20489" y="11460"/>
                </a:cubicBezTo>
                <a:cubicBezTo>
                  <a:pt x="20549" y="11216"/>
                  <a:pt x="20759" y="11224"/>
                  <a:pt x="20886" y="11410"/>
                </a:cubicBezTo>
                <a:cubicBezTo>
                  <a:pt x="20972" y="11535"/>
                  <a:pt x="20985" y="11687"/>
                  <a:pt x="20985" y="11832"/>
                </a:cubicBezTo>
              </a:path>
              <a:path w="869" h="770">
                <a:moveTo>
                  <a:pt x="20216" y="11509"/>
                </a:moveTo>
                <a:cubicBezTo>
                  <a:pt x="20267" y="11633"/>
                  <a:pt x="20309" y="11759"/>
                  <a:pt x="20365" y="11881"/>
                </a:cubicBezTo>
              </a:path>
              <a:path w="869" h="770">
                <a:moveTo>
                  <a:pt x="20166" y="11187"/>
                </a:moveTo>
                <a:cubicBezTo>
                  <a:pt x="20141" y="11187"/>
                  <a:pt x="20133" y="11187"/>
                  <a:pt x="20166" y="1118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0120" y="2276640"/>
            <a:ext cx="1973160" cy="63360"/>
          </a:xfrm>
          <a:custGeom>
            <a:avLst/>
            <a:gdLst/>
            <a:ahLst/>
            <a:rect l="l" t="t" r="r" b="b"/>
            <a:pathLst>
              <a:path w="5483" h="175">
                <a:moveTo>
                  <a:pt x="10666" y="6375"/>
                </a:moveTo>
                <a:cubicBezTo>
                  <a:pt x="10891" y="6375"/>
                  <a:pt x="11117" y="6366"/>
                  <a:pt x="11336" y="6400"/>
                </a:cubicBezTo>
                <a:cubicBezTo>
                  <a:pt x="11435" y="6416"/>
                  <a:pt x="11531" y="6422"/>
                  <a:pt x="11633" y="6424"/>
                </a:cubicBezTo>
                <a:cubicBezTo>
                  <a:pt x="11785" y="6426"/>
                  <a:pt x="11929" y="6446"/>
                  <a:pt x="12080" y="6449"/>
                </a:cubicBezTo>
                <a:cubicBezTo>
                  <a:pt x="12313" y="6454"/>
                  <a:pt x="12544" y="6458"/>
                  <a:pt x="12774" y="6474"/>
                </a:cubicBezTo>
                <a:cubicBezTo>
                  <a:pt x="12910" y="6484"/>
                  <a:pt x="13089" y="6505"/>
                  <a:pt x="13221" y="6499"/>
                </a:cubicBezTo>
                <a:cubicBezTo>
                  <a:pt x="13322" y="6494"/>
                  <a:pt x="13413" y="6476"/>
                  <a:pt x="13519" y="6474"/>
                </a:cubicBezTo>
                <a:cubicBezTo>
                  <a:pt x="13711" y="6470"/>
                  <a:pt x="13897" y="6452"/>
                  <a:pt x="14089" y="6449"/>
                </a:cubicBezTo>
                <a:cubicBezTo>
                  <a:pt x="14305" y="6446"/>
                  <a:pt x="14522" y="6433"/>
                  <a:pt x="14734" y="6424"/>
                </a:cubicBezTo>
                <a:cubicBezTo>
                  <a:pt x="14977" y="6414"/>
                  <a:pt x="15212" y="6411"/>
                  <a:pt x="15453" y="6375"/>
                </a:cubicBezTo>
                <a:cubicBezTo>
                  <a:pt x="15626" y="6349"/>
                  <a:pt x="15800" y="6329"/>
                  <a:pt x="15974" y="6325"/>
                </a:cubicBezTo>
                <a:cubicBezTo>
                  <a:pt x="16032" y="6324"/>
                  <a:pt x="16090" y="6325"/>
                  <a:pt x="16148" y="63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54800" y="5965920"/>
            <a:ext cx="2295360" cy="642960"/>
          </a:xfrm>
          <a:custGeom>
            <a:avLst/>
            <a:gdLst/>
            <a:ahLst/>
            <a:rect l="l" t="t" r="r" b="b"/>
            <a:pathLst>
              <a:path w="6375" h="1786">
                <a:moveTo>
                  <a:pt x="17214" y="16867"/>
                </a:moveTo>
                <a:cubicBezTo>
                  <a:pt x="16970" y="16852"/>
                  <a:pt x="16714" y="16839"/>
                  <a:pt x="16470" y="16892"/>
                </a:cubicBezTo>
                <a:cubicBezTo>
                  <a:pt x="16146" y="16962"/>
                  <a:pt x="15823" y="17074"/>
                  <a:pt x="15503" y="17140"/>
                </a:cubicBezTo>
                <a:cubicBezTo>
                  <a:pt x="15482" y="17144"/>
                  <a:pt x="15457" y="17160"/>
                  <a:pt x="15429" y="17165"/>
                </a:cubicBezTo>
                <a:cubicBezTo>
                  <a:pt x="15471" y="17336"/>
                  <a:pt x="15512" y="17513"/>
                  <a:pt x="15553" y="17686"/>
                </a:cubicBezTo>
                <a:cubicBezTo>
                  <a:pt x="15592" y="17850"/>
                  <a:pt x="15641" y="18011"/>
                  <a:pt x="15627" y="18182"/>
                </a:cubicBezTo>
                <a:cubicBezTo>
                  <a:pt x="15624" y="18224"/>
                  <a:pt x="15608" y="18263"/>
                  <a:pt x="15602" y="18306"/>
                </a:cubicBezTo>
                <a:cubicBezTo>
                  <a:pt x="15702" y="18319"/>
                  <a:pt x="15798" y="18322"/>
                  <a:pt x="15900" y="18331"/>
                </a:cubicBezTo>
                <a:cubicBezTo>
                  <a:pt x="16255" y="18362"/>
                  <a:pt x="16609" y="18355"/>
                  <a:pt x="16966" y="18355"/>
                </a:cubicBezTo>
                <a:cubicBezTo>
                  <a:pt x="17373" y="18355"/>
                  <a:pt x="17777" y="18349"/>
                  <a:pt x="18182" y="18331"/>
                </a:cubicBezTo>
                <a:cubicBezTo>
                  <a:pt x="18439" y="18320"/>
                  <a:pt x="18695" y="18310"/>
                  <a:pt x="18951" y="18281"/>
                </a:cubicBezTo>
                <a:cubicBezTo>
                  <a:pt x="19209" y="18252"/>
                  <a:pt x="19463" y="18227"/>
                  <a:pt x="19720" y="18207"/>
                </a:cubicBezTo>
                <a:cubicBezTo>
                  <a:pt x="20001" y="18185"/>
                  <a:pt x="20281" y="18161"/>
                  <a:pt x="20563" y="18157"/>
                </a:cubicBezTo>
                <a:cubicBezTo>
                  <a:pt x="20953" y="18152"/>
                  <a:pt x="21343" y="18159"/>
                  <a:pt x="21729" y="18132"/>
                </a:cubicBezTo>
                <a:cubicBezTo>
                  <a:pt x="21754" y="18132"/>
                  <a:pt x="21762" y="18132"/>
                  <a:pt x="21779" y="18132"/>
                </a:cubicBezTo>
                <a:cubicBezTo>
                  <a:pt x="21785" y="17901"/>
                  <a:pt x="21815" y="17669"/>
                  <a:pt x="21803" y="17438"/>
                </a:cubicBezTo>
                <a:cubicBezTo>
                  <a:pt x="21795" y="17282"/>
                  <a:pt x="21734" y="17142"/>
                  <a:pt x="21704" y="16991"/>
                </a:cubicBezTo>
                <a:cubicBezTo>
                  <a:pt x="21692" y="16931"/>
                  <a:pt x="21705" y="16826"/>
                  <a:pt x="21679" y="16768"/>
                </a:cubicBezTo>
                <a:cubicBezTo>
                  <a:pt x="21649" y="16701"/>
                  <a:pt x="21667" y="16711"/>
                  <a:pt x="21605" y="16669"/>
                </a:cubicBezTo>
                <a:cubicBezTo>
                  <a:pt x="21530" y="16618"/>
                  <a:pt x="21619" y="16616"/>
                  <a:pt x="21456" y="16619"/>
                </a:cubicBezTo>
                <a:cubicBezTo>
                  <a:pt x="21341" y="16621"/>
                  <a:pt x="21225" y="16679"/>
                  <a:pt x="21109" y="16669"/>
                </a:cubicBezTo>
                <a:cubicBezTo>
                  <a:pt x="20952" y="16656"/>
                  <a:pt x="20796" y="16605"/>
                  <a:pt x="20638" y="16594"/>
                </a:cubicBezTo>
                <a:cubicBezTo>
                  <a:pt x="20227" y="16567"/>
                  <a:pt x="19728" y="16527"/>
                  <a:pt x="19323" y="16570"/>
                </a:cubicBezTo>
                <a:cubicBezTo>
                  <a:pt x="19131" y="16590"/>
                  <a:pt x="18944" y="16603"/>
                  <a:pt x="18752" y="16619"/>
                </a:cubicBezTo>
                <a:cubicBezTo>
                  <a:pt x="18496" y="16641"/>
                  <a:pt x="18238" y="16655"/>
                  <a:pt x="17983" y="16669"/>
                </a:cubicBezTo>
                <a:cubicBezTo>
                  <a:pt x="17880" y="16675"/>
                  <a:pt x="17788" y="16689"/>
                  <a:pt x="17686" y="16694"/>
                </a:cubicBezTo>
                <a:cubicBezTo>
                  <a:pt x="17570" y="16700"/>
                  <a:pt x="17449" y="16713"/>
                  <a:pt x="17338" y="16718"/>
                </a:cubicBezTo>
                <a:cubicBezTo>
                  <a:pt x="17194" y="16725"/>
                  <a:pt x="17057" y="16726"/>
                  <a:pt x="16917" y="16743"/>
                </a:cubicBezTo>
                <a:cubicBezTo>
                  <a:pt x="16768" y="16761"/>
                  <a:pt x="16611" y="16777"/>
                  <a:pt x="16470" y="16818"/>
                </a:cubicBezTo>
                <a:cubicBezTo>
                  <a:pt x="16432" y="16829"/>
                  <a:pt x="16355" y="16850"/>
                  <a:pt x="16321" y="16867"/>
                </a:cubicBezTo>
                <a:cubicBezTo>
                  <a:pt x="16321" y="16875"/>
                  <a:pt x="16321" y="16884"/>
                  <a:pt x="16321" y="1689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33160" y="2514600"/>
            <a:ext cx="75056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portions and Scale Drawings WS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4:16:18Z</dcterms:created>
  <dc:creator>ccps</dc:creator>
  <dc:description/>
  <dc:language>en-US</dc:language>
  <cp:lastModifiedBy>deanne elizabeth mcgrath</cp:lastModifiedBy>
  <dcterms:modified xsi:type="dcterms:W3CDTF">2011-05-19T17:37:57Z</dcterms:modified>
  <cp:revision>10</cp:revision>
  <dc:subject/>
  <dc:title>Unit 13</dc:title>
</cp:coreProperties>
</file>